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6.png" ContentType="image/png"/>
  <Override PartName="/ppt/media/image18.png" ContentType="image/png"/>
  <Override PartName="/ppt/media/image15.gif" ContentType="image/gif"/>
  <Override PartName="/ppt/media/image50.png" ContentType="image/png"/>
  <Override PartName="/ppt/media/image14.png" ContentType="image/png"/>
  <Override PartName="/ppt/media/image28.png" ContentType="image/png"/>
  <Override PartName="/ppt/media/image35.gif" ContentType="image/gif"/>
  <Override PartName="/ppt/media/image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6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9.wmf" ContentType="image/x-wmf"/>
  <Override PartName="/ppt/media/image51.png" ContentType="image/png"/>
  <Override PartName="/ppt/media/image30.jpeg" ContentType="image/jpeg"/>
  <Override PartName="/ppt/media/image43.png" ContentType="image/png"/>
  <Override PartName="/ppt/media/image52.jpeg" ContentType="image/jpe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234-BFD0-43F0-9FBB-2054E7A1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9D7-ABAC-4AC4-9D69-923033DC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CD9-CA83-412E-AD99-61C0161E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131-4F76-4132-A9AA-10BF52EF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C372-94F7-4F60-94BC-2F27DE8B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2CFA-1C03-47D8-A120-EC0EBFA4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84B-4DD5-4079-9400-E8F677EC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48E-43D4-482F-9E87-C90C9FB5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6B2A-0586-4235-B4C0-63803E0B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C2F2-85D1-4A18-9EE3-D745EFE6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B5B-2216-4A34-8A4A-D1D26DCB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B67-B20D-4079-8F75-1CA9F2D7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1C7C-8AB6-438B-A60B-81E435F969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image" Target="../media/image2.png"/><Relationship Id="rId19" Type="http://schemas.openxmlformats.org/officeDocument/2006/relationships/image" Target="../media/image3.png"/><Relationship Id="rId20" Type="http://schemas.openxmlformats.org/officeDocument/2006/relationships/image" Target="../media/image2.png"/><Relationship Id="rId21" Type="http://schemas.openxmlformats.org/officeDocument/2006/relationships/image" Target="../media/image3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9.png"/><Relationship Id="rId26" Type="http://schemas.openxmlformats.org/officeDocument/2006/relationships/image" Target="../media/image10.png"/><Relationship Id="rId27" Type="http://schemas.openxmlformats.org/officeDocument/2006/relationships/image" Target="../media/image8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8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6.png"/><Relationship Id="rId35" Type="http://schemas.openxmlformats.org/officeDocument/2006/relationships/image" Target="../media/image7.png"/><Relationship Id="rId36" Type="http://schemas.openxmlformats.org/officeDocument/2006/relationships/image" Target="../media/image8.png"/><Relationship Id="rId37" Type="http://schemas.openxmlformats.org/officeDocument/2006/relationships/image" Target="../media/image6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11.png"/><Relationship Id="rId41" Type="http://schemas.openxmlformats.org/officeDocument/2006/relationships/image" Target="../media/image12.png"/><Relationship Id="rId42" Type="http://schemas.openxmlformats.org/officeDocument/2006/relationships/image" Target="../media/image13.png"/><Relationship Id="rId43" Type="http://schemas.openxmlformats.org/officeDocument/2006/relationships/image" Target="../media/image4.png"/><Relationship Id="rId44" Type="http://schemas.openxmlformats.org/officeDocument/2006/relationships/image" Target="../media/image5.png"/><Relationship Id="rId45" Type="http://schemas.openxmlformats.org/officeDocument/2006/relationships/image" Target="../media/image4.png"/><Relationship Id="rId46" Type="http://schemas.openxmlformats.org/officeDocument/2006/relationships/image" Target="../media/image5.png"/><Relationship Id="rId47" Type="http://schemas.openxmlformats.org/officeDocument/2006/relationships/image" Target="../media/image4.png"/><Relationship Id="rId48" Type="http://schemas.openxmlformats.org/officeDocument/2006/relationships/image" Target="../media/image5.png"/><Relationship Id="rId49" Type="http://schemas.openxmlformats.org/officeDocument/2006/relationships/image" Target="../media/image4.png"/><Relationship Id="rId50" Type="http://schemas.openxmlformats.org/officeDocument/2006/relationships/image" Target="../media/image5.png"/><Relationship Id="rId51" Type="http://schemas.openxmlformats.org/officeDocument/2006/relationships/image" Target="../media/image4.png"/><Relationship Id="rId52" Type="http://schemas.openxmlformats.org/officeDocument/2006/relationships/image" Target="../media/image5.png"/><Relationship Id="rId53" Type="http://schemas.openxmlformats.org/officeDocument/2006/relationships/image" Target="../media/image14.png"/><Relationship Id="rId54" Type="http://schemas.openxmlformats.org/officeDocument/2006/relationships/image" Target="../media/image10.png"/><Relationship Id="rId55" Type="http://schemas.openxmlformats.org/officeDocument/2006/relationships/image" Target="../media/image8.png"/><Relationship Id="rId56" Type="http://schemas.openxmlformats.org/officeDocument/2006/relationships/image" Target="../media/image6.png"/><Relationship Id="rId57" Type="http://schemas.openxmlformats.org/officeDocument/2006/relationships/image" Target="../media/image7.png"/><Relationship Id="rId58" Type="http://schemas.openxmlformats.org/officeDocument/2006/relationships/image" Target="../media/image8.png"/><Relationship Id="rId59" Type="http://schemas.openxmlformats.org/officeDocument/2006/relationships/image" Target="../media/image15.gif"/><Relationship Id="rId60" Type="http://schemas.openxmlformats.org/officeDocument/2006/relationships/image" Target="../media/image6.png"/><Relationship Id="rId61" Type="http://schemas.openxmlformats.org/officeDocument/2006/relationships/image" Target="../media/image7.png"/><Relationship Id="rId62" Type="http://schemas.openxmlformats.org/officeDocument/2006/relationships/image" Target="../media/image8.png"/><Relationship Id="rId63" Type="http://schemas.openxmlformats.org/officeDocument/2006/relationships/image" Target="../media/image4.png"/><Relationship Id="rId64" Type="http://schemas.openxmlformats.org/officeDocument/2006/relationships/image" Target="../media/image5.png"/><Relationship Id="rId6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wm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9.png"/><Relationship Id="rId11" Type="http://schemas.openxmlformats.org/officeDocument/2006/relationships/image" Target="../media/image16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55"/>
          <p:cNvSpPr/>
          <p:nvPr/>
        </p:nvSpPr>
        <p:spPr>
          <a:xfrm>
            <a:off x="2171880" y="2517840"/>
            <a:ext cx="390240" cy="4089240"/>
          </a:xfrm>
          <a:custGeom>
            <a:avLst/>
            <a:gdLst>
              <a:gd name="textAreaLeft" fmla="*/ 0 w 390240"/>
              <a:gd name="textAreaRight" fmla="*/ 390600 w 390240"/>
              <a:gd name="textAreaTop" fmla="*/ 0 h 4089240"/>
              <a:gd name="textAreaBottom" fmla="*/ 4089600 h 4089240"/>
            </a:gdLst>
            <a:ahLst/>
            <a:rect l="textAreaLeft" t="textAreaTop" r="textAreaRight" b="textAreaBottom"/>
            <a:pathLst>
              <a:path w="272" h="2640">
                <a:moveTo>
                  <a:pt x="16" y="2440"/>
                </a:moveTo>
                <a:cubicBezTo>
                  <a:pt x="16" y="2540"/>
                  <a:pt x="16" y="2640"/>
                  <a:pt x="16" y="2392"/>
                </a:cubicBezTo>
                <a:cubicBezTo>
                  <a:pt x="16" y="2144"/>
                  <a:pt x="0" y="1296"/>
                  <a:pt x="16" y="952"/>
                </a:cubicBezTo>
                <a:cubicBezTo>
                  <a:pt x="32" y="608"/>
                  <a:pt x="104" y="480"/>
                  <a:pt x="112" y="328"/>
                </a:cubicBezTo>
                <a:cubicBezTo>
                  <a:pt x="120" y="176"/>
                  <a:pt x="56" y="80"/>
                  <a:pt x="64" y="40"/>
                </a:cubicBezTo>
                <a:cubicBezTo>
                  <a:pt x="72" y="0"/>
                  <a:pt x="144" y="32"/>
                  <a:pt x="160" y="88"/>
                </a:cubicBezTo>
                <a:cubicBezTo>
                  <a:pt x="176" y="144"/>
                  <a:pt x="168" y="256"/>
                  <a:pt x="160" y="376"/>
                </a:cubicBezTo>
                <a:cubicBezTo>
                  <a:pt x="152" y="496"/>
                  <a:pt x="120" y="656"/>
                  <a:pt x="112" y="808"/>
                </a:cubicBezTo>
                <a:cubicBezTo>
                  <a:pt x="104" y="960"/>
                  <a:pt x="112" y="1104"/>
                  <a:pt x="112" y="1288"/>
                </a:cubicBezTo>
                <a:cubicBezTo>
                  <a:pt x="112" y="1472"/>
                  <a:pt x="88" y="1720"/>
                  <a:pt x="112" y="1912"/>
                </a:cubicBezTo>
                <a:cubicBezTo>
                  <a:pt x="136" y="2104"/>
                  <a:pt x="272" y="2360"/>
                  <a:pt x="256" y="2440"/>
                </a:cubicBezTo>
                <a:cubicBezTo>
                  <a:pt x="240" y="2520"/>
                  <a:pt x="128" y="2456"/>
                  <a:pt x="16" y="2392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56"/>
          <p:cNvSpPr/>
          <p:nvPr/>
        </p:nvSpPr>
        <p:spPr>
          <a:xfrm>
            <a:off x="571680" y="571680"/>
            <a:ext cx="4047840" cy="3929040"/>
          </a:xfrm>
          <a:custGeom>
            <a:avLst/>
            <a:gdLst>
              <a:gd name="textAreaLeft" fmla="*/ 0 w 4047840"/>
              <a:gd name="textAreaRight" fmla="*/ 4048200 w 4047840"/>
              <a:gd name="textAreaTop" fmla="*/ 0 h 3929040"/>
              <a:gd name="textAreaBottom" fmla="*/ 3929400 h 3929040"/>
            </a:gdLst>
            <a:ahLst/>
            <a:rect l="textAreaLeft" t="textAreaTop" r="textAreaRight" b="textAreaBottom"/>
            <a:pathLst>
              <a:path w="2816" h="2536">
                <a:moveTo>
                  <a:pt x="1120" y="2432"/>
                </a:moveTo>
                <a:cubicBezTo>
                  <a:pt x="912" y="2432"/>
                  <a:pt x="704" y="2432"/>
                  <a:pt x="592" y="2336"/>
                </a:cubicBezTo>
                <a:cubicBezTo>
                  <a:pt x="480" y="2240"/>
                  <a:pt x="536" y="1976"/>
                  <a:pt x="448" y="1856"/>
                </a:cubicBezTo>
                <a:cubicBezTo>
                  <a:pt x="360" y="1736"/>
                  <a:pt x="128" y="1760"/>
                  <a:pt x="64" y="1616"/>
                </a:cubicBezTo>
                <a:cubicBezTo>
                  <a:pt x="0" y="1472"/>
                  <a:pt x="48" y="1160"/>
                  <a:pt x="64" y="992"/>
                </a:cubicBezTo>
                <a:cubicBezTo>
                  <a:pt x="80" y="824"/>
                  <a:pt x="80" y="720"/>
                  <a:pt x="160" y="608"/>
                </a:cubicBezTo>
                <a:cubicBezTo>
                  <a:pt x="240" y="496"/>
                  <a:pt x="352" y="400"/>
                  <a:pt x="544" y="320"/>
                </a:cubicBezTo>
                <a:cubicBezTo>
                  <a:pt x="736" y="240"/>
                  <a:pt x="1144" y="176"/>
                  <a:pt x="1312" y="128"/>
                </a:cubicBezTo>
                <a:cubicBezTo>
                  <a:pt x="1480" y="80"/>
                  <a:pt x="1448" y="0"/>
                  <a:pt x="1552" y="32"/>
                </a:cubicBezTo>
                <a:cubicBezTo>
                  <a:pt x="1656" y="64"/>
                  <a:pt x="1768" y="232"/>
                  <a:pt x="1936" y="320"/>
                </a:cubicBezTo>
                <a:cubicBezTo>
                  <a:pt x="2104" y="408"/>
                  <a:pt x="2448" y="480"/>
                  <a:pt x="2560" y="560"/>
                </a:cubicBezTo>
                <a:cubicBezTo>
                  <a:pt x="2672" y="640"/>
                  <a:pt x="2568" y="656"/>
                  <a:pt x="2608" y="800"/>
                </a:cubicBezTo>
                <a:cubicBezTo>
                  <a:pt x="2648" y="944"/>
                  <a:pt x="2816" y="1272"/>
                  <a:pt x="2800" y="1424"/>
                </a:cubicBezTo>
                <a:cubicBezTo>
                  <a:pt x="2784" y="1576"/>
                  <a:pt x="2568" y="1584"/>
                  <a:pt x="2512" y="1712"/>
                </a:cubicBezTo>
                <a:cubicBezTo>
                  <a:pt x="2456" y="1840"/>
                  <a:pt x="2544" y="2088"/>
                  <a:pt x="2464" y="2192"/>
                </a:cubicBezTo>
                <a:cubicBezTo>
                  <a:pt x="2384" y="2296"/>
                  <a:pt x="2144" y="2280"/>
                  <a:pt x="2032" y="2336"/>
                </a:cubicBezTo>
                <a:cubicBezTo>
                  <a:pt x="1920" y="2392"/>
                  <a:pt x="1888" y="2520"/>
                  <a:pt x="1792" y="2528"/>
                </a:cubicBezTo>
                <a:cubicBezTo>
                  <a:pt x="1696" y="2536"/>
                  <a:pt x="1552" y="2408"/>
                  <a:pt x="1456" y="2384"/>
                </a:cubicBezTo>
                <a:cubicBezTo>
                  <a:pt x="1360" y="2360"/>
                  <a:pt x="1264" y="2384"/>
                  <a:pt x="1216" y="2384"/>
                </a:cubicBezTo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8000"/>
              </a:gs>
              <a:gs pos="100000">
                <a:srgbClr val="33cc33"/>
              </a:gs>
            </a:gsLst>
            <a:lin ang="189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57"/>
          <p:cNvGrpSpPr/>
          <p:nvPr/>
        </p:nvGrpSpPr>
        <p:grpSpPr>
          <a:xfrm>
            <a:off x="2334240" y="2903400"/>
            <a:ext cx="1170720" cy="821520"/>
            <a:chOff x="2334240" y="2903400"/>
            <a:chExt cx="1170720" cy="821520"/>
          </a:xfrm>
        </p:grpSpPr>
        <p:sp>
          <p:nvSpPr>
            <p:cNvPr id="44" name="Freeform 58"/>
            <p:cNvSpPr/>
            <p:nvPr/>
          </p:nvSpPr>
          <p:spPr>
            <a:xfrm rot="18155400">
              <a:off x="3030840" y="2946240"/>
              <a:ext cx="358920" cy="4694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59"/>
            <p:cNvGrpSpPr/>
            <p:nvPr/>
          </p:nvGrpSpPr>
          <p:grpSpPr>
            <a:xfrm>
              <a:off x="2334240" y="2940120"/>
              <a:ext cx="972000" cy="784800"/>
              <a:chOff x="2334240" y="2940120"/>
              <a:chExt cx="972000" cy="784800"/>
            </a:xfrm>
          </p:grpSpPr>
          <p:grpSp>
            <p:nvGrpSpPr>
              <p:cNvPr id="46" name="Group 60"/>
              <p:cNvGrpSpPr/>
              <p:nvPr/>
            </p:nvGrpSpPr>
            <p:grpSpPr>
              <a:xfrm>
                <a:off x="2334240" y="2940120"/>
                <a:ext cx="972000" cy="784800"/>
                <a:chOff x="2334240" y="2940120"/>
                <a:chExt cx="972000" cy="784800"/>
              </a:xfrm>
            </p:grpSpPr>
            <p:sp>
              <p:nvSpPr>
                <p:cNvPr id="47" name="Freeform 61"/>
                <p:cNvSpPr/>
                <p:nvPr/>
              </p:nvSpPr>
              <p:spPr>
                <a:xfrm rot="19953000">
                  <a:off x="2337120" y="3122280"/>
                  <a:ext cx="844920" cy="220320"/>
                </a:xfrm>
                <a:custGeom>
                  <a:avLst/>
                  <a:gdLst>
                    <a:gd name="textAreaLeft" fmla="*/ 0 w 844920"/>
                    <a:gd name="textAreaRight" fmla="*/ 845280 w 844920"/>
                    <a:gd name="textAreaTop" fmla="*/ 0 h 220320"/>
                    <a:gd name="textAreaBottom" fmla="*/ 220680 h 22032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62"/>
                <p:cNvSpPr/>
                <p:nvPr/>
              </p:nvSpPr>
              <p:spPr>
                <a:xfrm rot="19953000">
                  <a:off x="2423880" y="3250800"/>
                  <a:ext cx="863640" cy="291240"/>
                </a:xfrm>
                <a:custGeom>
                  <a:avLst/>
                  <a:gdLst>
                    <a:gd name="textAreaLeft" fmla="*/ 0 w 863640"/>
                    <a:gd name="textAreaRight" fmla="*/ 864000 w 863640"/>
                    <a:gd name="textAreaTop" fmla="*/ 0 h 291240"/>
                    <a:gd name="textAreaBottom" fmla="*/ 291600 h 29124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" name="Freeform 63"/>
              <p:cNvSpPr/>
              <p:nvPr/>
            </p:nvSpPr>
            <p:spPr>
              <a:xfrm rot="19953000">
                <a:off x="3041280" y="3142440"/>
                <a:ext cx="86760" cy="2062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64"/>
              <p:cNvSpPr/>
              <p:nvPr/>
            </p:nvSpPr>
            <p:spPr>
              <a:xfrm rot="19953000">
                <a:off x="2935080" y="3197880"/>
                <a:ext cx="86760" cy="2062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65"/>
              <p:cNvSpPr/>
              <p:nvPr/>
            </p:nvSpPr>
            <p:spPr>
              <a:xfrm rot="19953000">
                <a:off x="2826000" y="3286080"/>
                <a:ext cx="71280" cy="13140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66"/>
              <p:cNvSpPr/>
              <p:nvPr/>
            </p:nvSpPr>
            <p:spPr>
              <a:xfrm rot="19953000">
                <a:off x="2829240" y="3110760"/>
                <a:ext cx="111600" cy="10296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67"/>
              <p:cNvSpPr/>
              <p:nvPr/>
            </p:nvSpPr>
            <p:spPr>
              <a:xfrm rot="19953000">
                <a:off x="2910600" y="3053880"/>
                <a:ext cx="119520" cy="1144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" name="Group 68"/>
          <p:cNvGrpSpPr/>
          <p:nvPr/>
        </p:nvGrpSpPr>
        <p:grpSpPr>
          <a:xfrm>
            <a:off x="815400" y="3720600"/>
            <a:ext cx="1171440" cy="822240"/>
            <a:chOff x="815400" y="3720600"/>
            <a:chExt cx="1171440" cy="822240"/>
          </a:xfrm>
        </p:grpSpPr>
        <p:sp>
          <p:nvSpPr>
            <p:cNvPr id="55" name="Freeform 69"/>
            <p:cNvSpPr/>
            <p:nvPr/>
          </p:nvSpPr>
          <p:spPr>
            <a:xfrm rot="18155400">
              <a:off x="1512720" y="3763080"/>
              <a:ext cx="358920" cy="4701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70"/>
            <p:cNvGrpSpPr/>
            <p:nvPr/>
          </p:nvGrpSpPr>
          <p:grpSpPr>
            <a:xfrm>
              <a:off x="815400" y="3756960"/>
              <a:ext cx="972720" cy="785880"/>
              <a:chOff x="815400" y="3756960"/>
              <a:chExt cx="972720" cy="785880"/>
            </a:xfrm>
          </p:grpSpPr>
          <p:grpSp>
            <p:nvGrpSpPr>
              <p:cNvPr id="57" name="Group 71"/>
              <p:cNvGrpSpPr/>
              <p:nvPr/>
            </p:nvGrpSpPr>
            <p:grpSpPr>
              <a:xfrm>
                <a:off x="815400" y="3756960"/>
                <a:ext cx="972720" cy="785880"/>
                <a:chOff x="815400" y="3756960"/>
                <a:chExt cx="972720" cy="785880"/>
              </a:xfrm>
            </p:grpSpPr>
            <p:sp>
              <p:nvSpPr>
                <p:cNvPr id="58" name="Freeform 72"/>
                <p:cNvSpPr/>
                <p:nvPr/>
              </p:nvSpPr>
              <p:spPr>
                <a:xfrm rot="19953000">
                  <a:off x="818280" y="3939480"/>
                  <a:ext cx="846360" cy="220320"/>
                </a:xfrm>
                <a:custGeom>
                  <a:avLst/>
                  <a:gdLst>
                    <a:gd name="textAreaLeft" fmla="*/ 0 w 846360"/>
                    <a:gd name="textAreaRight" fmla="*/ 846720 w 846360"/>
                    <a:gd name="textAreaTop" fmla="*/ 0 h 220320"/>
                    <a:gd name="textAreaBottom" fmla="*/ 220680 h 22032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Freeform 73"/>
                <p:cNvSpPr/>
                <p:nvPr/>
              </p:nvSpPr>
              <p:spPr>
                <a:xfrm rot="19953000">
                  <a:off x="904680" y="4068360"/>
                  <a:ext cx="865080" cy="291240"/>
                </a:xfrm>
                <a:custGeom>
                  <a:avLst/>
                  <a:gdLst>
                    <a:gd name="textAreaLeft" fmla="*/ 0 w 865080"/>
                    <a:gd name="textAreaRight" fmla="*/ 865440 w 865080"/>
                    <a:gd name="textAreaTop" fmla="*/ 0 h 291240"/>
                    <a:gd name="textAreaBottom" fmla="*/ 291600 h 29124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" name="Freeform 74"/>
              <p:cNvSpPr/>
              <p:nvPr/>
            </p:nvSpPr>
            <p:spPr>
              <a:xfrm rot="19953000">
                <a:off x="1523160" y="3960360"/>
                <a:ext cx="86760" cy="2062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75"/>
              <p:cNvSpPr/>
              <p:nvPr/>
            </p:nvSpPr>
            <p:spPr>
              <a:xfrm rot="19953000">
                <a:off x="1417320" y="4015080"/>
                <a:ext cx="86760" cy="2062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76"/>
              <p:cNvSpPr/>
              <p:nvPr/>
            </p:nvSpPr>
            <p:spPr>
              <a:xfrm rot="19953000">
                <a:off x="1307520" y="4103640"/>
                <a:ext cx="71640" cy="1314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77"/>
              <p:cNvSpPr/>
              <p:nvPr/>
            </p:nvSpPr>
            <p:spPr>
              <a:xfrm rot="19953000">
                <a:off x="1310760" y="3928320"/>
                <a:ext cx="111600" cy="10296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78"/>
              <p:cNvSpPr/>
              <p:nvPr/>
            </p:nvSpPr>
            <p:spPr>
              <a:xfrm rot="19953000">
                <a:off x="1392480" y="3871440"/>
                <a:ext cx="119520" cy="1144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Group 79"/>
          <p:cNvGrpSpPr/>
          <p:nvPr/>
        </p:nvGrpSpPr>
        <p:grpSpPr>
          <a:xfrm>
            <a:off x="214200" y="2746440"/>
            <a:ext cx="601920" cy="1215720"/>
            <a:chOff x="214200" y="2746440"/>
            <a:chExt cx="601920" cy="1215720"/>
          </a:xfrm>
        </p:grpSpPr>
        <p:sp>
          <p:nvSpPr>
            <p:cNvPr id="66" name="Freeform 80"/>
            <p:cNvSpPr/>
            <p:nvPr/>
          </p:nvSpPr>
          <p:spPr>
            <a:xfrm rot="13840800">
              <a:off x="349200" y="2782080"/>
              <a:ext cx="331920" cy="506520"/>
            </a:xfrm>
            <a:custGeom>
              <a:avLst/>
              <a:gdLst>
                <a:gd name="textAreaLeft" fmla="*/ 0 w 331920"/>
                <a:gd name="textAreaRight" fmla="*/ 332280 w 3319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81"/>
            <p:cNvGrpSpPr/>
            <p:nvPr/>
          </p:nvGrpSpPr>
          <p:grpSpPr>
            <a:xfrm>
              <a:off x="230040" y="2975760"/>
              <a:ext cx="555480" cy="986400"/>
              <a:chOff x="230040" y="2975760"/>
              <a:chExt cx="555480" cy="986400"/>
            </a:xfrm>
          </p:grpSpPr>
          <p:grpSp>
            <p:nvGrpSpPr>
              <p:cNvPr id="68" name="Group 82"/>
              <p:cNvGrpSpPr/>
              <p:nvPr/>
            </p:nvGrpSpPr>
            <p:grpSpPr>
              <a:xfrm>
                <a:off x="230040" y="2975760"/>
                <a:ext cx="555480" cy="986400"/>
                <a:chOff x="230040" y="2975760"/>
                <a:chExt cx="555480" cy="986400"/>
              </a:xfrm>
            </p:grpSpPr>
            <p:sp>
              <p:nvSpPr>
                <p:cNvPr id="69" name="Freeform 83"/>
                <p:cNvSpPr/>
                <p:nvPr/>
              </p:nvSpPr>
              <p:spPr>
                <a:xfrm rot="15638400">
                  <a:off x="-51120" y="3393720"/>
                  <a:ext cx="911880" cy="203760"/>
                </a:xfrm>
                <a:custGeom>
                  <a:avLst/>
                  <a:gdLst>
                    <a:gd name="textAreaLeft" fmla="*/ 0 w 911880"/>
                    <a:gd name="textAreaRight" fmla="*/ 912240 w 911880"/>
                    <a:gd name="textAreaTop" fmla="*/ 0 h 203760"/>
                    <a:gd name="textAreaBottom" fmla="*/ 204120 h 20376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84"/>
                <p:cNvSpPr/>
                <p:nvPr/>
              </p:nvSpPr>
              <p:spPr>
                <a:xfrm rot="15638400">
                  <a:off x="110520" y="3322440"/>
                  <a:ext cx="932040" cy="269640"/>
                </a:xfrm>
                <a:custGeom>
                  <a:avLst/>
                  <a:gdLst>
                    <a:gd name="textAreaLeft" fmla="*/ 0 w 932040"/>
                    <a:gd name="textAreaRight" fmla="*/ 932400 w 93204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Freeform 85"/>
              <p:cNvSpPr/>
              <p:nvPr/>
            </p:nvSpPr>
            <p:spPr>
              <a:xfrm rot="15638400">
                <a:off x="456120" y="3075120"/>
                <a:ext cx="93600" cy="1908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86"/>
              <p:cNvSpPr/>
              <p:nvPr/>
            </p:nvSpPr>
            <p:spPr>
              <a:xfrm rot="15638400">
                <a:off x="477000" y="3202920"/>
                <a:ext cx="93600" cy="1908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87"/>
              <p:cNvSpPr/>
              <p:nvPr/>
            </p:nvSpPr>
            <p:spPr>
              <a:xfrm rot="15638400">
                <a:off x="499320" y="3373920"/>
                <a:ext cx="77040" cy="1216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88"/>
              <p:cNvSpPr/>
              <p:nvPr/>
            </p:nvSpPr>
            <p:spPr>
              <a:xfrm rot="15638400">
                <a:off x="315000" y="3296160"/>
                <a:ext cx="120240" cy="954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89"/>
              <p:cNvSpPr/>
              <p:nvPr/>
            </p:nvSpPr>
            <p:spPr>
              <a:xfrm rot="15638400">
                <a:off x="288000" y="3186000"/>
                <a:ext cx="128880" cy="1058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90"/>
          <p:cNvGrpSpPr/>
          <p:nvPr/>
        </p:nvGrpSpPr>
        <p:grpSpPr>
          <a:xfrm>
            <a:off x="168120" y="1393560"/>
            <a:ext cx="808200" cy="1070640"/>
            <a:chOff x="168120" y="1393560"/>
            <a:chExt cx="808200" cy="1070640"/>
          </a:xfrm>
        </p:grpSpPr>
        <p:sp>
          <p:nvSpPr>
            <p:cNvPr id="77" name="Freeform 91"/>
            <p:cNvSpPr/>
            <p:nvPr/>
          </p:nvSpPr>
          <p:spPr>
            <a:xfrm rot="15604200">
              <a:off x="534960" y="1374840"/>
              <a:ext cx="357840" cy="47016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92"/>
            <p:cNvGrpSpPr/>
            <p:nvPr/>
          </p:nvGrpSpPr>
          <p:grpSpPr>
            <a:xfrm>
              <a:off x="168120" y="1517040"/>
              <a:ext cx="714240" cy="947160"/>
              <a:chOff x="168120" y="1517040"/>
              <a:chExt cx="714240" cy="947160"/>
            </a:xfrm>
          </p:grpSpPr>
          <p:grpSp>
            <p:nvGrpSpPr>
              <p:cNvPr id="79" name="Group 93"/>
              <p:cNvGrpSpPr/>
              <p:nvPr/>
            </p:nvGrpSpPr>
            <p:grpSpPr>
              <a:xfrm>
                <a:off x="168120" y="1517040"/>
                <a:ext cx="714240" cy="947160"/>
                <a:chOff x="168120" y="1517040"/>
                <a:chExt cx="714240" cy="947160"/>
              </a:xfrm>
            </p:grpSpPr>
            <p:sp>
              <p:nvSpPr>
                <p:cNvPr id="80" name="Freeform 94"/>
                <p:cNvSpPr/>
                <p:nvPr/>
              </p:nvSpPr>
              <p:spPr>
                <a:xfrm rot="17401800">
                  <a:off x="-6840" y="1842480"/>
                  <a:ext cx="846360" cy="219600"/>
                </a:xfrm>
                <a:custGeom>
                  <a:avLst/>
                  <a:gdLst>
                    <a:gd name="textAreaLeft" fmla="*/ 0 w 846360"/>
                    <a:gd name="textAreaRight" fmla="*/ 846720 w 846360"/>
                    <a:gd name="textAreaTop" fmla="*/ 0 h 219600"/>
                    <a:gd name="textAreaBottom" fmla="*/ 219960 h 21960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95"/>
                <p:cNvSpPr/>
                <p:nvPr/>
              </p:nvSpPr>
              <p:spPr>
                <a:xfrm rot="17401800">
                  <a:off x="165240" y="1862640"/>
                  <a:ext cx="865080" cy="290520"/>
                </a:xfrm>
                <a:custGeom>
                  <a:avLst/>
                  <a:gdLst>
                    <a:gd name="textAreaLeft" fmla="*/ 0 w 865080"/>
                    <a:gd name="textAreaRight" fmla="*/ 865440 w 865080"/>
                    <a:gd name="textAreaTop" fmla="*/ 0 h 290520"/>
                    <a:gd name="textAreaBottom" fmla="*/ 290880 h 29052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Freeform 96"/>
              <p:cNvSpPr/>
              <p:nvPr/>
            </p:nvSpPr>
            <p:spPr>
              <a:xfrm rot="17401800">
                <a:off x="621000" y="163908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97"/>
              <p:cNvSpPr/>
              <p:nvPr/>
            </p:nvSpPr>
            <p:spPr>
              <a:xfrm rot="17401800">
                <a:off x="579960" y="175140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98"/>
              <p:cNvSpPr/>
              <p:nvPr/>
            </p:nvSpPr>
            <p:spPr>
              <a:xfrm rot="17401800">
                <a:off x="535680" y="1904760"/>
                <a:ext cx="71640" cy="131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99"/>
              <p:cNvSpPr/>
              <p:nvPr/>
            </p:nvSpPr>
            <p:spPr>
              <a:xfrm rot="17401800">
                <a:off x="405000" y="1764360"/>
                <a:ext cx="111600" cy="10260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00"/>
              <p:cNvSpPr/>
              <p:nvPr/>
            </p:nvSpPr>
            <p:spPr>
              <a:xfrm rot="17401800">
                <a:off x="429840" y="1662480"/>
                <a:ext cx="119520" cy="11412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Group 123"/>
          <p:cNvGrpSpPr/>
          <p:nvPr/>
        </p:nvGrpSpPr>
        <p:grpSpPr>
          <a:xfrm>
            <a:off x="1127160" y="94320"/>
            <a:ext cx="984600" cy="1040040"/>
            <a:chOff x="1127160" y="94320"/>
            <a:chExt cx="984600" cy="1040040"/>
          </a:xfrm>
        </p:grpSpPr>
        <p:sp>
          <p:nvSpPr>
            <p:cNvPr id="88" name="Freeform 124"/>
            <p:cNvSpPr/>
            <p:nvPr/>
          </p:nvSpPr>
          <p:spPr>
            <a:xfrm rot="444000">
              <a:off x="1747440" y="609120"/>
              <a:ext cx="333000" cy="50580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505800"/>
                <a:gd name="textAreaBottom" fmla="*/ 506160 h 50580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25"/>
            <p:cNvGrpSpPr/>
            <p:nvPr/>
          </p:nvGrpSpPr>
          <p:grpSpPr>
            <a:xfrm>
              <a:off x="1127160" y="94320"/>
              <a:ext cx="974520" cy="893520"/>
              <a:chOff x="1127160" y="94320"/>
              <a:chExt cx="974520" cy="893520"/>
            </a:xfrm>
          </p:grpSpPr>
          <p:grpSp>
            <p:nvGrpSpPr>
              <p:cNvPr id="90" name="Group 126"/>
              <p:cNvGrpSpPr/>
              <p:nvPr/>
            </p:nvGrpSpPr>
            <p:grpSpPr>
              <a:xfrm>
                <a:off x="1127160" y="94320"/>
                <a:ext cx="974520" cy="893520"/>
                <a:chOff x="1127160" y="94320"/>
                <a:chExt cx="974520" cy="893520"/>
              </a:xfrm>
            </p:grpSpPr>
            <p:sp>
              <p:nvSpPr>
                <p:cNvPr id="91" name="Freeform 127"/>
                <p:cNvSpPr/>
                <p:nvPr/>
              </p:nvSpPr>
              <p:spPr>
                <a:xfrm rot="2241600">
                  <a:off x="1222920" y="349200"/>
                  <a:ext cx="910080" cy="204480"/>
                </a:xfrm>
                <a:custGeom>
                  <a:avLst/>
                  <a:gdLst>
                    <a:gd name="textAreaLeft" fmla="*/ 0 w 910080"/>
                    <a:gd name="textAreaRight" fmla="*/ 910440 w 91008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128"/>
                <p:cNvSpPr/>
                <p:nvPr/>
              </p:nvSpPr>
              <p:spPr>
                <a:xfrm rot="2241600">
                  <a:off x="1113840" y="462600"/>
                  <a:ext cx="930240" cy="27036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270360"/>
                    <a:gd name="textAreaBottom" fmla="*/ 270720 h 2703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Freeform 129"/>
              <p:cNvSpPr/>
              <p:nvPr/>
            </p:nvSpPr>
            <p:spPr>
              <a:xfrm rot="2241600">
                <a:off x="1782000" y="659520"/>
                <a:ext cx="93240" cy="19116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30"/>
              <p:cNvSpPr/>
              <p:nvPr/>
            </p:nvSpPr>
            <p:spPr>
              <a:xfrm rot="2241600">
                <a:off x="1679400" y="581760"/>
                <a:ext cx="93240" cy="19116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31"/>
              <p:cNvSpPr/>
              <p:nvPr/>
            </p:nvSpPr>
            <p:spPr>
              <a:xfrm rot="2241600">
                <a:off x="1583640" y="527040"/>
                <a:ext cx="77040" cy="1220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32"/>
              <p:cNvSpPr/>
              <p:nvPr/>
            </p:nvSpPr>
            <p:spPr>
              <a:xfrm rot="2241600">
                <a:off x="1743120" y="493920"/>
                <a:ext cx="119880" cy="954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33"/>
              <p:cNvSpPr/>
              <p:nvPr/>
            </p:nvSpPr>
            <p:spPr>
              <a:xfrm rot="2241600">
                <a:off x="1827000" y="549720"/>
                <a:ext cx="128520" cy="10620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34"/>
          <p:cNvGrpSpPr/>
          <p:nvPr/>
        </p:nvGrpSpPr>
        <p:grpSpPr>
          <a:xfrm>
            <a:off x="4244760" y="1612440"/>
            <a:ext cx="896040" cy="999000"/>
            <a:chOff x="4244760" y="1612440"/>
            <a:chExt cx="896040" cy="999000"/>
          </a:xfrm>
        </p:grpSpPr>
        <p:sp>
          <p:nvSpPr>
            <p:cNvPr id="99" name="Freeform 135"/>
            <p:cNvSpPr/>
            <p:nvPr/>
          </p:nvSpPr>
          <p:spPr>
            <a:xfrm flipV="1" rot="16192200">
              <a:off x="4300920" y="1557000"/>
              <a:ext cx="358200" cy="47016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360 h 470160"/>
                <a:gd name="textAreaBottom" fmla="*/ 470880 h 4701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136"/>
            <p:cNvGrpSpPr/>
            <p:nvPr/>
          </p:nvGrpSpPr>
          <p:grpSpPr>
            <a:xfrm>
              <a:off x="4321800" y="1656360"/>
              <a:ext cx="819000" cy="955080"/>
              <a:chOff x="4321800" y="1656360"/>
              <a:chExt cx="819000" cy="955080"/>
            </a:xfrm>
          </p:grpSpPr>
          <p:grpSp>
            <p:nvGrpSpPr>
              <p:cNvPr id="101" name="Group 137"/>
              <p:cNvGrpSpPr/>
              <p:nvPr/>
            </p:nvGrpSpPr>
            <p:grpSpPr>
              <a:xfrm>
                <a:off x="4321800" y="1656360"/>
                <a:ext cx="819000" cy="955080"/>
                <a:chOff x="4321800" y="1656360"/>
                <a:chExt cx="819000" cy="955080"/>
              </a:xfrm>
            </p:grpSpPr>
            <p:sp>
              <p:nvSpPr>
                <p:cNvPr id="102" name="Freeform 138"/>
                <p:cNvSpPr/>
                <p:nvPr/>
              </p:nvSpPr>
              <p:spPr>
                <a:xfrm flipV="1" rot="14394600">
                  <a:off x="4410360" y="1967760"/>
                  <a:ext cx="846360" cy="219600"/>
                </a:xfrm>
                <a:custGeom>
                  <a:avLst/>
                  <a:gdLst>
                    <a:gd name="textAreaLeft" fmla="*/ 0 w 846360"/>
                    <a:gd name="textAreaRight" fmla="*/ 846720 w 846360"/>
                    <a:gd name="textAreaTop" fmla="*/ 360 h 219600"/>
                    <a:gd name="textAreaBottom" fmla="*/ 220320 h 21960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39"/>
                <p:cNvSpPr/>
                <p:nvPr/>
              </p:nvSpPr>
              <p:spPr>
                <a:xfrm flipV="1" rot="14394600">
                  <a:off x="4231800" y="2018520"/>
                  <a:ext cx="865080" cy="290880"/>
                </a:xfrm>
                <a:custGeom>
                  <a:avLst/>
                  <a:gdLst>
                    <a:gd name="textAreaLeft" fmla="*/ 0 w 865080"/>
                    <a:gd name="textAreaRight" fmla="*/ 865440 w 865080"/>
                    <a:gd name="textAreaTop" fmla="*/ 360 h 290880"/>
                    <a:gd name="textAreaBottom" fmla="*/ 291600 h 29088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Freeform 140"/>
              <p:cNvSpPr/>
              <p:nvPr/>
            </p:nvSpPr>
            <p:spPr>
              <a:xfrm flipV="1" rot="14394600">
                <a:off x="4508640" y="181008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41"/>
              <p:cNvSpPr/>
              <p:nvPr/>
            </p:nvSpPr>
            <p:spPr>
              <a:xfrm flipV="1" rot="14394600">
                <a:off x="4568760" y="191340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42"/>
              <p:cNvSpPr/>
              <p:nvPr/>
            </p:nvSpPr>
            <p:spPr>
              <a:xfrm flipV="1" rot="14394600">
                <a:off x="4647240" y="2056680"/>
                <a:ext cx="71640" cy="1314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-360 h 131400"/>
                  <a:gd name="textAreaBottom" fmla="*/ 131400 h 13140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43"/>
              <p:cNvSpPr/>
              <p:nvPr/>
            </p:nvSpPr>
            <p:spPr>
              <a:xfrm flipV="1" rot="14394600">
                <a:off x="4709520" y="1899360"/>
                <a:ext cx="111600" cy="10260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-360 h 102600"/>
                  <a:gd name="textAreaBottom" fmla="*/ 102600 h 1026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44"/>
              <p:cNvSpPr/>
              <p:nvPr/>
            </p:nvSpPr>
            <p:spPr>
              <a:xfrm flipV="1" rot="14394600">
                <a:off x="4660560" y="1804680"/>
                <a:ext cx="119520" cy="1144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360 h 114480"/>
                  <a:gd name="textAreaBottom" fmla="*/ 115200 h 1144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Group 145"/>
          <p:cNvGrpSpPr/>
          <p:nvPr/>
        </p:nvGrpSpPr>
        <p:grpSpPr>
          <a:xfrm>
            <a:off x="4059360" y="3225960"/>
            <a:ext cx="894600" cy="999000"/>
            <a:chOff x="4059360" y="3225960"/>
            <a:chExt cx="894600" cy="999000"/>
          </a:xfrm>
        </p:grpSpPr>
        <p:sp>
          <p:nvSpPr>
            <p:cNvPr id="110" name="Freeform 146"/>
            <p:cNvSpPr/>
            <p:nvPr/>
          </p:nvSpPr>
          <p:spPr>
            <a:xfrm flipV="1" rot="16192200">
              <a:off x="4114800" y="3171240"/>
              <a:ext cx="358920" cy="4694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360 h 469440"/>
                <a:gd name="textAreaBottom" fmla="*/ 470160 h 46944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147"/>
            <p:cNvGrpSpPr/>
            <p:nvPr/>
          </p:nvGrpSpPr>
          <p:grpSpPr>
            <a:xfrm>
              <a:off x="4135680" y="3270600"/>
              <a:ext cx="818280" cy="954360"/>
              <a:chOff x="4135680" y="3270600"/>
              <a:chExt cx="818280" cy="954360"/>
            </a:xfrm>
          </p:grpSpPr>
          <p:grpSp>
            <p:nvGrpSpPr>
              <p:cNvPr id="112" name="Group 148"/>
              <p:cNvGrpSpPr/>
              <p:nvPr/>
            </p:nvGrpSpPr>
            <p:grpSpPr>
              <a:xfrm>
                <a:off x="4135680" y="3270600"/>
                <a:ext cx="818280" cy="954360"/>
                <a:chOff x="4135680" y="3270600"/>
                <a:chExt cx="818280" cy="954360"/>
              </a:xfrm>
            </p:grpSpPr>
            <p:sp>
              <p:nvSpPr>
                <p:cNvPr id="113" name="Freeform 149"/>
                <p:cNvSpPr/>
                <p:nvPr/>
              </p:nvSpPr>
              <p:spPr>
                <a:xfrm flipV="1" rot="14394600">
                  <a:off x="4224600" y="3580560"/>
                  <a:ext cx="844560" cy="220320"/>
                </a:xfrm>
                <a:custGeom>
                  <a:avLst/>
                  <a:gdLst>
                    <a:gd name="textAreaLeft" fmla="*/ 0 w 844560"/>
                    <a:gd name="textAreaRight" fmla="*/ 844920 w 844560"/>
                    <a:gd name="textAreaTop" fmla="*/ 360 h 220320"/>
                    <a:gd name="textAreaBottom" fmla="*/ 221040 h 22032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150"/>
                <p:cNvSpPr/>
                <p:nvPr/>
              </p:nvSpPr>
              <p:spPr>
                <a:xfrm flipV="1" rot="14394600">
                  <a:off x="4046400" y="3632400"/>
                  <a:ext cx="863280" cy="291240"/>
                </a:xfrm>
                <a:custGeom>
                  <a:avLst/>
                  <a:gdLst>
                    <a:gd name="textAreaLeft" fmla="*/ 0 w 863280"/>
                    <a:gd name="textAreaRight" fmla="*/ 863640 w 863280"/>
                    <a:gd name="textAreaTop" fmla="*/ -360 h 291240"/>
                    <a:gd name="textAreaBottom" fmla="*/ 291240 h 29124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Freeform 151"/>
              <p:cNvSpPr/>
              <p:nvPr/>
            </p:nvSpPr>
            <p:spPr>
              <a:xfrm flipV="1" rot="14394600">
                <a:off x="4322160" y="3424680"/>
                <a:ext cx="86400" cy="20664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360 h 206640"/>
                  <a:gd name="textAreaBottom" fmla="*/ 207360 h 20664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52"/>
              <p:cNvSpPr/>
              <p:nvPr/>
            </p:nvSpPr>
            <p:spPr>
              <a:xfrm flipV="1" rot="14394600">
                <a:off x="4381920" y="3527640"/>
                <a:ext cx="86400" cy="20664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360 h 206640"/>
                  <a:gd name="textAreaBottom" fmla="*/ 207360 h 20664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53"/>
              <p:cNvSpPr/>
              <p:nvPr/>
            </p:nvSpPr>
            <p:spPr>
              <a:xfrm flipV="1" rot="14394600">
                <a:off x="4460760" y="3671280"/>
                <a:ext cx="71280" cy="13140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-360 h 131400"/>
                  <a:gd name="textAreaBottom" fmla="*/ 131400 h 13140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54"/>
              <p:cNvSpPr/>
              <p:nvPr/>
            </p:nvSpPr>
            <p:spPr>
              <a:xfrm flipV="1" rot="14394600">
                <a:off x="4523400" y="3513960"/>
                <a:ext cx="111240" cy="10260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-360 h 102600"/>
                  <a:gd name="textAreaBottom" fmla="*/ 102600 h 1026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55"/>
              <p:cNvSpPr/>
              <p:nvPr/>
            </p:nvSpPr>
            <p:spPr>
              <a:xfrm flipV="1" rot="14394600">
                <a:off x="4474080" y="3419280"/>
                <a:ext cx="119160" cy="11448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360 h 114480"/>
                  <a:gd name="textAreaBottom" fmla="*/ 115200 h 1144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Group 156"/>
          <p:cNvGrpSpPr/>
          <p:nvPr/>
        </p:nvGrpSpPr>
        <p:grpSpPr>
          <a:xfrm>
            <a:off x="3436560" y="1665360"/>
            <a:ext cx="895680" cy="997560"/>
            <a:chOff x="3436560" y="1665360"/>
            <a:chExt cx="895680" cy="997560"/>
          </a:xfrm>
        </p:grpSpPr>
        <p:sp>
          <p:nvSpPr>
            <p:cNvPr id="121" name="Freeform 157"/>
            <p:cNvSpPr/>
            <p:nvPr/>
          </p:nvSpPr>
          <p:spPr>
            <a:xfrm flipV="1" rot="16192200">
              <a:off x="3492720" y="1609200"/>
              <a:ext cx="357840" cy="47016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360 h 470160"/>
                <a:gd name="textAreaBottom" fmla="*/ 470880 h 4701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158"/>
            <p:cNvGrpSpPr/>
            <p:nvPr/>
          </p:nvGrpSpPr>
          <p:grpSpPr>
            <a:xfrm>
              <a:off x="3514320" y="1708200"/>
              <a:ext cx="817920" cy="954720"/>
              <a:chOff x="3514320" y="1708200"/>
              <a:chExt cx="817920" cy="954720"/>
            </a:xfrm>
          </p:grpSpPr>
          <p:grpSp>
            <p:nvGrpSpPr>
              <p:cNvPr id="123" name="Group 159"/>
              <p:cNvGrpSpPr/>
              <p:nvPr/>
            </p:nvGrpSpPr>
            <p:grpSpPr>
              <a:xfrm>
                <a:off x="3514320" y="1708200"/>
                <a:ext cx="817920" cy="954720"/>
                <a:chOff x="3514320" y="1708200"/>
                <a:chExt cx="817920" cy="954720"/>
              </a:xfrm>
            </p:grpSpPr>
            <p:sp>
              <p:nvSpPr>
                <p:cNvPr id="124" name="Freeform 160"/>
                <p:cNvSpPr/>
                <p:nvPr/>
              </p:nvSpPr>
              <p:spPr>
                <a:xfrm flipV="1" rot="14394600">
                  <a:off x="3601800" y="2018880"/>
                  <a:ext cx="846360" cy="219240"/>
                </a:xfrm>
                <a:custGeom>
                  <a:avLst/>
                  <a:gdLst>
                    <a:gd name="textAreaLeft" fmla="*/ 0 w 846360"/>
                    <a:gd name="textAreaRight" fmla="*/ 846720 w 846360"/>
                    <a:gd name="textAreaTop" fmla="*/ -360 h 219240"/>
                    <a:gd name="textAreaBottom" fmla="*/ 219240 h 2192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161"/>
                <p:cNvSpPr/>
                <p:nvPr/>
              </p:nvSpPr>
              <p:spPr>
                <a:xfrm flipV="1" rot="14394600">
                  <a:off x="3423960" y="2070360"/>
                  <a:ext cx="865080" cy="290160"/>
                </a:xfrm>
                <a:custGeom>
                  <a:avLst/>
                  <a:gdLst>
                    <a:gd name="textAreaLeft" fmla="*/ 0 w 865080"/>
                    <a:gd name="textAreaRight" fmla="*/ 865440 w 865080"/>
                    <a:gd name="textAreaTop" fmla="*/ 360 h 290160"/>
                    <a:gd name="textAreaBottom" fmla="*/ 290880 h 2901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Freeform 162"/>
              <p:cNvSpPr/>
              <p:nvPr/>
            </p:nvSpPr>
            <p:spPr>
              <a:xfrm flipV="1" rot="14394600">
                <a:off x="3700800" y="186192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3"/>
              <p:cNvSpPr/>
              <p:nvPr/>
            </p:nvSpPr>
            <p:spPr>
              <a:xfrm flipV="1" rot="14394600">
                <a:off x="3760560" y="196524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4"/>
              <p:cNvSpPr/>
              <p:nvPr/>
            </p:nvSpPr>
            <p:spPr>
              <a:xfrm flipV="1" rot="14394600">
                <a:off x="3839400" y="2108880"/>
                <a:ext cx="71640" cy="131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360 h 131040"/>
                  <a:gd name="textAreaBottom" fmla="*/ 131760 h 131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5"/>
              <p:cNvSpPr/>
              <p:nvPr/>
            </p:nvSpPr>
            <p:spPr>
              <a:xfrm flipV="1" rot="14394600">
                <a:off x="3901320" y="1951560"/>
                <a:ext cx="111600" cy="10260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-360 h 102600"/>
                  <a:gd name="textAreaBottom" fmla="*/ 102600 h 1026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6"/>
              <p:cNvSpPr/>
              <p:nvPr/>
            </p:nvSpPr>
            <p:spPr>
              <a:xfrm flipV="1" rot="14394600">
                <a:off x="3852000" y="1856520"/>
                <a:ext cx="119520" cy="1144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360 h 114480"/>
                  <a:gd name="textAreaBottom" fmla="*/ 115200 h 1144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Group 167"/>
          <p:cNvGrpSpPr/>
          <p:nvPr/>
        </p:nvGrpSpPr>
        <p:grpSpPr>
          <a:xfrm>
            <a:off x="1090440" y="1293840"/>
            <a:ext cx="896040" cy="997920"/>
            <a:chOff x="1090440" y="1293840"/>
            <a:chExt cx="896040" cy="997920"/>
          </a:xfrm>
        </p:grpSpPr>
        <p:sp>
          <p:nvSpPr>
            <p:cNvPr id="132" name="Freeform 168"/>
            <p:cNvSpPr/>
            <p:nvPr/>
          </p:nvSpPr>
          <p:spPr>
            <a:xfrm flipV="1" rot="16192200">
              <a:off x="1146600" y="1237680"/>
              <a:ext cx="357840" cy="47016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360 h 470160"/>
                <a:gd name="textAreaBottom" fmla="*/ 470880 h 4701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69"/>
            <p:cNvGrpSpPr/>
            <p:nvPr/>
          </p:nvGrpSpPr>
          <p:grpSpPr>
            <a:xfrm>
              <a:off x="1168560" y="1337040"/>
              <a:ext cx="817920" cy="954720"/>
              <a:chOff x="1168560" y="1337040"/>
              <a:chExt cx="817920" cy="954720"/>
            </a:xfrm>
          </p:grpSpPr>
          <p:grpSp>
            <p:nvGrpSpPr>
              <p:cNvPr id="134" name="Group 170"/>
              <p:cNvGrpSpPr/>
              <p:nvPr/>
            </p:nvGrpSpPr>
            <p:grpSpPr>
              <a:xfrm>
                <a:off x="1168560" y="1337040"/>
                <a:ext cx="817920" cy="954720"/>
                <a:chOff x="1168560" y="1337040"/>
                <a:chExt cx="817920" cy="954720"/>
              </a:xfrm>
            </p:grpSpPr>
            <p:sp>
              <p:nvSpPr>
                <p:cNvPr id="135" name="Freeform 171"/>
                <p:cNvSpPr/>
                <p:nvPr/>
              </p:nvSpPr>
              <p:spPr>
                <a:xfrm flipV="1" rot="14394600">
                  <a:off x="1256040" y="1647720"/>
                  <a:ext cx="846360" cy="219240"/>
                </a:xfrm>
                <a:custGeom>
                  <a:avLst/>
                  <a:gdLst>
                    <a:gd name="textAreaLeft" fmla="*/ 0 w 846360"/>
                    <a:gd name="textAreaRight" fmla="*/ 846720 w 846360"/>
                    <a:gd name="textAreaTop" fmla="*/ -360 h 219240"/>
                    <a:gd name="textAreaBottom" fmla="*/ 219240 h 2192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172"/>
                <p:cNvSpPr/>
                <p:nvPr/>
              </p:nvSpPr>
              <p:spPr>
                <a:xfrm flipV="1" rot="14394600">
                  <a:off x="1078200" y="1699200"/>
                  <a:ext cx="865080" cy="290160"/>
                </a:xfrm>
                <a:custGeom>
                  <a:avLst/>
                  <a:gdLst>
                    <a:gd name="textAreaLeft" fmla="*/ 0 w 865080"/>
                    <a:gd name="textAreaRight" fmla="*/ 865440 w 865080"/>
                    <a:gd name="textAreaTop" fmla="*/ 360 h 290160"/>
                    <a:gd name="textAreaBottom" fmla="*/ 290880 h 2901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Freeform 173"/>
              <p:cNvSpPr/>
              <p:nvPr/>
            </p:nvSpPr>
            <p:spPr>
              <a:xfrm flipV="1" rot="14394600">
                <a:off x="1355040" y="149076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4"/>
              <p:cNvSpPr/>
              <p:nvPr/>
            </p:nvSpPr>
            <p:spPr>
              <a:xfrm flipV="1" rot="14394600">
                <a:off x="1414800" y="159408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75"/>
              <p:cNvSpPr/>
              <p:nvPr/>
            </p:nvSpPr>
            <p:spPr>
              <a:xfrm flipV="1" rot="14394600">
                <a:off x="1493640" y="1737360"/>
                <a:ext cx="71640" cy="131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360 h 131040"/>
                  <a:gd name="textAreaBottom" fmla="*/ 131760 h 131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76"/>
              <p:cNvSpPr/>
              <p:nvPr/>
            </p:nvSpPr>
            <p:spPr>
              <a:xfrm flipV="1" rot="14394600">
                <a:off x="1555560" y="1580040"/>
                <a:ext cx="111600" cy="10260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-360 h 102600"/>
                  <a:gd name="textAreaBottom" fmla="*/ 102600 h 1026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77"/>
              <p:cNvSpPr/>
              <p:nvPr/>
            </p:nvSpPr>
            <p:spPr>
              <a:xfrm flipV="1" rot="14394600">
                <a:off x="1506240" y="1485000"/>
                <a:ext cx="119520" cy="1144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360 h 114480"/>
                  <a:gd name="textAreaBottom" fmla="*/ 115200 h 1144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178"/>
          <p:cNvGrpSpPr/>
          <p:nvPr/>
        </p:nvGrpSpPr>
        <p:grpSpPr>
          <a:xfrm>
            <a:off x="1366560" y="2482920"/>
            <a:ext cx="895680" cy="997560"/>
            <a:chOff x="1366560" y="2482920"/>
            <a:chExt cx="895680" cy="997560"/>
          </a:xfrm>
        </p:grpSpPr>
        <p:sp>
          <p:nvSpPr>
            <p:cNvPr id="143" name="Freeform 179"/>
            <p:cNvSpPr/>
            <p:nvPr/>
          </p:nvSpPr>
          <p:spPr>
            <a:xfrm flipV="1" rot="16192200">
              <a:off x="1422720" y="2426760"/>
              <a:ext cx="357840" cy="47016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360 h 470160"/>
                <a:gd name="textAreaBottom" fmla="*/ 470880 h 4701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180"/>
            <p:cNvGrpSpPr/>
            <p:nvPr/>
          </p:nvGrpSpPr>
          <p:grpSpPr>
            <a:xfrm>
              <a:off x="1444320" y="2525760"/>
              <a:ext cx="817920" cy="954720"/>
              <a:chOff x="1444320" y="2525760"/>
              <a:chExt cx="817920" cy="954720"/>
            </a:xfrm>
          </p:grpSpPr>
          <p:grpSp>
            <p:nvGrpSpPr>
              <p:cNvPr id="145" name="Group 181"/>
              <p:cNvGrpSpPr/>
              <p:nvPr/>
            </p:nvGrpSpPr>
            <p:grpSpPr>
              <a:xfrm>
                <a:off x="1444320" y="2525760"/>
                <a:ext cx="817920" cy="954720"/>
                <a:chOff x="1444320" y="2525760"/>
                <a:chExt cx="817920" cy="954720"/>
              </a:xfrm>
            </p:grpSpPr>
            <p:sp>
              <p:nvSpPr>
                <p:cNvPr id="146" name="Freeform 182"/>
                <p:cNvSpPr/>
                <p:nvPr/>
              </p:nvSpPr>
              <p:spPr>
                <a:xfrm flipV="1" rot="14394600">
                  <a:off x="1531800" y="2836440"/>
                  <a:ext cx="846360" cy="219240"/>
                </a:xfrm>
                <a:custGeom>
                  <a:avLst/>
                  <a:gdLst>
                    <a:gd name="textAreaLeft" fmla="*/ 0 w 846360"/>
                    <a:gd name="textAreaRight" fmla="*/ 846720 w 846360"/>
                    <a:gd name="textAreaTop" fmla="*/ -360 h 219240"/>
                    <a:gd name="textAreaBottom" fmla="*/ 219240 h 2192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20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183"/>
                <p:cNvSpPr/>
                <p:nvPr/>
              </p:nvSpPr>
              <p:spPr>
                <a:xfrm flipV="1" rot="14394600">
                  <a:off x="1353960" y="2887920"/>
                  <a:ext cx="865080" cy="290160"/>
                </a:xfrm>
                <a:custGeom>
                  <a:avLst/>
                  <a:gdLst>
                    <a:gd name="textAreaLeft" fmla="*/ 0 w 865080"/>
                    <a:gd name="textAreaRight" fmla="*/ 865440 w 865080"/>
                    <a:gd name="textAreaTop" fmla="*/ 360 h 290160"/>
                    <a:gd name="textAreaBottom" fmla="*/ 290880 h 2901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Freeform 184"/>
              <p:cNvSpPr/>
              <p:nvPr/>
            </p:nvSpPr>
            <p:spPr>
              <a:xfrm flipV="1" rot="14394600">
                <a:off x="1630800" y="267948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85"/>
              <p:cNvSpPr/>
              <p:nvPr/>
            </p:nvSpPr>
            <p:spPr>
              <a:xfrm flipV="1" rot="14394600">
                <a:off x="1690560" y="278280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86"/>
              <p:cNvSpPr/>
              <p:nvPr/>
            </p:nvSpPr>
            <p:spPr>
              <a:xfrm flipV="1" rot="14394600">
                <a:off x="1769400" y="2926440"/>
                <a:ext cx="71640" cy="131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360 h 131040"/>
                  <a:gd name="textAreaBottom" fmla="*/ 131760 h 131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87"/>
              <p:cNvSpPr/>
              <p:nvPr/>
            </p:nvSpPr>
            <p:spPr>
              <a:xfrm flipV="1" rot="14394600">
                <a:off x="1831320" y="2769120"/>
                <a:ext cx="111600" cy="10260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-360 h 102600"/>
                  <a:gd name="textAreaBottom" fmla="*/ 102600 h 1026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88"/>
              <p:cNvSpPr/>
              <p:nvPr/>
            </p:nvSpPr>
            <p:spPr>
              <a:xfrm flipV="1" rot="14394600">
                <a:off x="1782000" y="2674080"/>
                <a:ext cx="119520" cy="1144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360 h 114480"/>
                  <a:gd name="textAreaBottom" fmla="*/ 115200 h 1144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638"/>
          <p:cNvGrpSpPr/>
          <p:nvPr/>
        </p:nvGrpSpPr>
        <p:grpSpPr>
          <a:xfrm>
            <a:off x="2357280" y="5500800"/>
            <a:ext cx="3816360" cy="1218960"/>
            <a:chOff x="2357280" y="5500800"/>
            <a:chExt cx="3816360" cy="1218960"/>
          </a:xfrm>
        </p:grpSpPr>
        <p:sp>
          <p:nvSpPr>
            <p:cNvPr id="154" name="Freeform 12"/>
            <p:cNvSpPr/>
            <p:nvPr/>
          </p:nvSpPr>
          <p:spPr>
            <a:xfrm>
              <a:off x="2357280" y="5883480"/>
              <a:ext cx="3816360" cy="836280"/>
            </a:xfrm>
            <a:custGeom>
              <a:avLst/>
              <a:gdLst/>
              <a:ahLst/>
              <a:rect l="l" t="t" r="r" b="b"/>
              <a:pathLst>
                <a:path w="2344" h="680">
                  <a:moveTo>
                    <a:pt x="0" y="56"/>
                  </a:moveTo>
                  <a:cubicBezTo>
                    <a:pt x="65" y="185"/>
                    <a:pt x="140" y="295"/>
                    <a:pt x="272" y="392"/>
                  </a:cubicBezTo>
                  <a:cubicBezTo>
                    <a:pt x="404" y="489"/>
                    <a:pt x="564" y="600"/>
                    <a:pt x="792" y="640"/>
                  </a:cubicBezTo>
                  <a:cubicBezTo>
                    <a:pt x="1020" y="680"/>
                    <a:pt x="1425" y="673"/>
                    <a:pt x="1640" y="632"/>
                  </a:cubicBezTo>
                  <a:cubicBezTo>
                    <a:pt x="1855" y="591"/>
                    <a:pt x="1963" y="497"/>
                    <a:pt x="2080" y="392"/>
                  </a:cubicBezTo>
                  <a:cubicBezTo>
                    <a:pt x="2197" y="287"/>
                    <a:pt x="2274" y="153"/>
                    <a:pt x="2344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2357280" y="5500800"/>
              <a:ext cx="3816360" cy="78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639"/>
          <p:cNvGrpSpPr/>
          <p:nvPr/>
        </p:nvGrpSpPr>
        <p:grpSpPr>
          <a:xfrm>
            <a:off x="2049480" y="831960"/>
            <a:ext cx="887040" cy="1485360"/>
            <a:chOff x="2049480" y="831960"/>
            <a:chExt cx="887040" cy="1485360"/>
          </a:xfrm>
        </p:grpSpPr>
        <p:grpSp>
          <p:nvGrpSpPr>
            <p:cNvPr id="157" name="Group 640"/>
            <p:cNvGrpSpPr/>
            <p:nvPr/>
          </p:nvGrpSpPr>
          <p:grpSpPr>
            <a:xfrm>
              <a:off x="2049480" y="831960"/>
              <a:ext cx="803160" cy="1485360"/>
              <a:chOff x="2049480" y="831960"/>
              <a:chExt cx="803160" cy="1485360"/>
            </a:xfrm>
          </p:grpSpPr>
          <p:sp>
            <p:nvSpPr>
              <p:cNvPr id="158" name="Freeform 641"/>
              <p:cNvSpPr/>
              <p:nvPr/>
            </p:nvSpPr>
            <p:spPr>
              <a:xfrm>
                <a:off x="2049480" y="1028880"/>
                <a:ext cx="803160" cy="99756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997560"/>
                  <a:gd name="textAreaBottom" fmla="*/ 997920 h 99756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2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642"/>
              <p:cNvSpPr/>
              <p:nvPr/>
            </p:nvSpPr>
            <p:spPr>
              <a:xfrm>
                <a:off x="2493000" y="831960"/>
                <a:ext cx="154080" cy="26064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60640"/>
                  <a:gd name="textAreaBottom" fmla="*/ 261000 h 26064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643"/>
              <p:cNvSpPr/>
              <p:nvPr/>
            </p:nvSpPr>
            <p:spPr>
              <a:xfrm>
                <a:off x="2176200" y="1377720"/>
                <a:ext cx="669960" cy="596160"/>
              </a:xfrm>
              <a:custGeom>
                <a:avLst/>
                <a:gdLst/>
                <a:ahLst/>
                <a:rect l="l" t="t" r="r" b="b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644"/>
              <p:cNvSpPr/>
              <p:nvPr/>
            </p:nvSpPr>
            <p:spPr>
              <a:xfrm>
                <a:off x="2432880" y="1599480"/>
                <a:ext cx="192240" cy="1278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645"/>
              <p:cNvSpPr/>
              <p:nvPr/>
            </p:nvSpPr>
            <p:spPr>
              <a:xfrm>
                <a:off x="2357280" y="2283840"/>
                <a:ext cx="96840" cy="33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Text Box 646"/>
            <p:cNvSpPr/>
            <p:nvPr/>
          </p:nvSpPr>
          <p:spPr>
            <a:xfrm>
              <a:off x="2141640" y="1400400"/>
              <a:ext cx="79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- 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655"/>
          <p:cNvGrpSpPr/>
          <p:nvPr/>
        </p:nvGrpSpPr>
        <p:grpSpPr>
          <a:xfrm>
            <a:off x="755640" y="2060640"/>
            <a:ext cx="799920" cy="1152360"/>
            <a:chOff x="755640" y="2060640"/>
            <a:chExt cx="799920" cy="1152360"/>
          </a:xfrm>
        </p:grpSpPr>
        <p:grpSp>
          <p:nvGrpSpPr>
            <p:cNvPr id="165" name="Group 648"/>
            <p:cNvGrpSpPr/>
            <p:nvPr/>
          </p:nvGrpSpPr>
          <p:grpSpPr>
            <a:xfrm>
              <a:off x="755640" y="2060640"/>
              <a:ext cx="792000" cy="1152360"/>
              <a:chOff x="755640" y="2060640"/>
              <a:chExt cx="792000" cy="1152360"/>
            </a:xfrm>
          </p:grpSpPr>
          <p:sp>
            <p:nvSpPr>
              <p:cNvPr id="166" name="Freeform 649"/>
              <p:cNvSpPr/>
              <p:nvPr/>
            </p:nvSpPr>
            <p:spPr>
              <a:xfrm>
                <a:off x="755640" y="2250360"/>
                <a:ext cx="792000" cy="952200"/>
              </a:xfrm>
              <a:custGeom>
                <a:avLst/>
                <a:gdLst>
                  <a:gd name="textAreaLeft" fmla="*/ 0 w 792000"/>
                  <a:gd name="textAreaRight" fmla="*/ 792360 w 792000"/>
                  <a:gd name="textAreaTop" fmla="*/ 0 h 952200"/>
                  <a:gd name="textAreaBottom" fmla="*/ 952560 h 95220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2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650"/>
              <p:cNvSpPr/>
              <p:nvPr/>
            </p:nvSpPr>
            <p:spPr>
              <a:xfrm>
                <a:off x="1190520" y="2060640"/>
                <a:ext cx="151920" cy="2487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51"/>
              <p:cNvSpPr/>
              <p:nvPr/>
            </p:nvSpPr>
            <p:spPr>
              <a:xfrm>
                <a:off x="878040" y="2581560"/>
                <a:ext cx="660600" cy="56916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652"/>
              <p:cNvSpPr/>
              <p:nvPr/>
            </p:nvSpPr>
            <p:spPr>
              <a:xfrm>
                <a:off x="1131480" y="2793600"/>
                <a:ext cx="189720" cy="12168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653"/>
              <p:cNvSpPr/>
              <p:nvPr/>
            </p:nvSpPr>
            <p:spPr>
              <a:xfrm>
                <a:off x="1077480" y="3180960"/>
                <a:ext cx="95400" cy="3204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 Box 654"/>
            <p:cNvSpPr/>
            <p:nvPr/>
          </p:nvSpPr>
          <p:spPr>
            <a:xfrm>
              <a:off x="760680" y="2598480"/>
              <a:ext cx="79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- 6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656"/>
          <p:cNvGrpSpPr/>
          <p:nvPr/>
        </p:nvGrpSpPr>
        <p:grpSpPr>
          <a:xfrm>
            <a:off x="1908000" y="2276640"/>
            <a:ext cx="890640" cy="1207800"/>
            <a:chOff x="1908000" y="2276640"/>
            <a:chExt cx="890640" cy="1207800"/>
          </a:xfrm>
        </p:grpSpPr>
        <p:grpSp>
          <p:nvGrpSpPr>
            <p:cNvPr id="173" name="Group 657"/>
            <p:cNvGrpSpPr/>
            <p:nvPr/>
          </p:nvGrpSpPr>
          <p:grpSpPr>
            <a:xfrm>
              <a:off x="1908000" y="2276640"/>
              <a:ext cx="803160" cy="1207800"/>
              <a:chOff x="1908000" y="2276640"/>
              <a:chExt cx="803160" cy="1207800"/>
            </a:xfrm>
          </p:grpSpPr>
          <p:sp>
            <p:nvSpPr>
              <p:cNvPr id="174" name="Freeform 658"/>
              <p:cNvSpPr/>
              <p:nvPr/>
            </p:nvSpPr>
            <p:spPr>
              <a:xfrm>
                <a:off x="1908000" y="2475360"/>
                <a:ext cx="803160" cy="99792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997920"/>
                  <a:gd name="textAreaBottom" fmla="*/ 998280 h 99792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2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659"/>
              <p:cNvSpPr/>
              <p:nvPr/>
            </p:nvSpPr>
            <p:spPr>
              <a:xfrm>
                <a:off x="2349000" y="2276640"/>
                <a:ext cx="154080" cy="2610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660"/>
              <p:cNvSpPr/>
              <p:nvPr/>
            </p:nvSpPr>
            <p:spPr>
              <a:xfrm>
                <a:off x="2032200" y="2822760"/>
                <a:ext cx="669960" cy="596520"/>
              </a:xfrm>
              <a:custGeom>
                <a:avLst/>
                <a:gdLst>
                  <a:gd name="textAreaLeft" fmla="*/ 0 w 669960"/>
                  <a:gd name="textAreaRight" fmla="*/ 669960 w 669960"/>
                  <a:gd name="textAreaTop" fmla="*/ 0 h 596520"/>
                  <a:gd name="textAreaBottom" fmla="*/ 596880 h 59652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661"/>
              <p:cNvSpPr/>
              <p:nvPr/>
            </p:nvSpPr>
            <p:spPr>
              <a:xfrm>
                <a:off x="2289240" y="3044880"/>
                <a:ext cx="192240" cy="1278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662"/>
              <p:cNvSpPr/>
              <p:nvPr/>
            </p:nvSpPr>
            <p:spPr>
              <a:xfrm>
                <a:off x="2234520" y="3450960"/>
                <a:ext cx="96840" cy="33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 Box 663"/>
            <p:cNvSpPr/>
            <p:nvPr/>
          </p:nvSpPr>
          <p:spPr>
            <a:xfrm>
              <a:off x="2000160" y="2840040"/>
              <a:ext cx="7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664"/>
          <p:cNvGrpSpPr/>
          <p:nvPr/>
        </p:nvGrpSpPr>
        <p:grpSpPr>
          <a:xfrm>
            <a:off x="857160" y="3214800"/>
            <a:ext cx="803160" cy="1207800"/>
            <a:chOff x="857160" y="3214800"/>
            <a:chExt cx="803160" cy="1207800"/>
          </a:xfrm>
        </p:grpSpPr>
        <p:grpSp>
          <p:nvGrpSpPr>
            <p:cNvPr id="181" name="Group 665"/>
            <p:cNvGrpSpPr/>
            <p:nvPr/>
          </p:nvGrpSpPr>
          <p:grpSpPr>
            <a:xfrm>
              <a:off x="857160" y="3214800"/>
              <a:ext cx="803160" cy="1207800"/>
              <a:chOff x="857160" y="3214800"/>
              <a:chExt cx="803160" cy="1207800"/>
            </a:xfrm>
          </p:grpSpPr>
          <p:sp>
            <p:nvSpPr>
              <p:cNvPr id="182" name="Freeform 666"/>
              <p:cNvSpPr/>
              <p:nvPr/>
            </p:nvSpPr>
            <p:spPr>
              <a:xfrm>
                <a:off x="857160" y="3413520"/>
                <a:ext cx="803160" cy="99792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997920"/>
                  <a:gd name="textAreaBottom" fmla="*/ 998280 h 99792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3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667"/>
              <p:cNvSpPr/>
              <p:nvPr/>
            </p:nvSpPr>
            <p:spPr>
              <a:xfrm>
                <a:off x="1298160" y="3214800"/>
                <a:ext cx="154080" cy="2610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668"/>
              <p:cNvSpPr/>
              <p:nvPr/>
            </p:nvSpPr>
            <p:spPr>
              <a:xfrm>
                <a:off x="981360" y="3760920"/>
                <a:ext cx="669960" cy="596520"/>
              </a:xfrm>
              <a:custGeom>
                <a:avLst/>
                <a:gdLst>
                  <a:gd name="textAreaLeft" fmla="*/ 0 w 669960"/>
                  <a:gd name="textAreaRight" fmla="*/ 669960 w 669960"/>
                  <a:gd name="textAreaTop" fmla="*/ 0 h 596520"/>
                  <a:gd name="textAreaBottom" fmla="*/ 596880 h 59652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669"/>
              <p:cNvSpPr/>
              <p:nvPr/>
            </p:nvSpPr>
            <p:spPr>
              <a:xfrm>
                <a:off x="1238400" y="3983040"/>
                <a:ext cx="192240" cy="1278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670"/>
              <p:cNvSpPr/>
              <p:nvPr/>
            </p:nvSpPr>
            <p:spPr>
              <a:xfrm>
                <a:off x="1183680" y="4389120"/>
                <a:ext cx="96840" cy="33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Text Box 671"/>
            <p:cNvSpPr/>
            <p:nvPr/>
          </p:nvSpPr>
          <p:spPr>
            <a:xfrm>
              <a:off x="947160" y="37782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672"/>
          <p:cNvGrpSpPr/>
          <p:nvPr/>
        </p:nvGrpSpPr>
        <p:grpSpPr>
          <a:xfrm>
            <a:off x="3786120" y="1500120"/>
            <a:ext cx="803160" cy="1207800"/>
            <a:chOff x="3786120" y="1500120"/>
            <a:chExt cx="803160" cy="1207800"/>
          </a:xfrm>
        </p:grpSpPr>
        <p:grpSp>
          <p:nvGrpSpPr>
            <p:cNvPr id="189" name="Group 673"/>
            <p:cNvGrpSpPr/>
            <p:nvPr/>
          </p:nvGrpSpPr>
          <p:grpSpPr>
            <a:xfrm>
              <a:off x="3786120" y="1500120"/>
              <a:ext cx="803160" cy="1207800"/>
              <a:chOff x="3786120" y="1500120"/>
              <a:chExt cx="803160" cy="1207800"/>
            </a:xfrm>
          </p:grpSpPr>
          <p:sp>
            <p:nvSpPr>
              <p:cNvPr id="190" name="Freeform 674"/>
              <p:cNvSpPr/>
              <p:nvPr/>
            </p:nvSpPr>
            <p:spPr>
              <a:xfrm>
                <a:off x="3786120" y="1698840"/>
                <a:ext cx="803160" cy="99828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998280"/>
                  <a:gd name="textAreaBottom" fmla="*/ 998640 h 99828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3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675"/>
              <p:cNvSpPr/>
              <p:nvPr/>
            </p:nvSpPr>
            <p:spPr>
              <a:xfrm>
                <a:off x="4227120" y="1500120"/>
                <a:ext cx="154080" cy="2610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676"/>
              <p:cNvSpPr/>
              <p:nvPr/>
            </p:nvSpPr>
            <p:spPr>
              <a:xfrm>
                <a:off x="3910320" y="2046240"/>
                <a:ext cx="669960" cy="596880"/>
              </a:xfrm>
              <a:custGeom>
                <a:avLst/>
                <a:gdLst>
                  <a:gd name="textAreaLeft" fmla="*/ 0 w 669960"/>
                  <a:gd name="textAreaRight" fmla="*/ 669960 w 66996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3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677"/>
              <p:cNvSpPr/>
              <p:nvPr/>
            </p:nvSpPr>
            <p:spPr>
              <a:xfrm>
                <a:off x="4167360" y="2268360"/>
                <a:ext cx="192240" cy="1278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3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678"/>
              <p:cNvSpPr/>
              <p:nvPr/>
            </p:nvSpPr>
            <p:spPr>
              <a:xfrm>
                <a:off x="4112640" y="2674440"/>
                <a:ext cx="96840" cy="33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679"/>
            <p:cNvSpPr/>
            <p:nvPr/>
          </p:nvSpPr>
          <p:spPr>
            <a:xfrm>
              <a:off x="3873600" y="206388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680"/>
          <p:cNvGrpSpPr/>
          <p:nvPr/>
        </p:nvGrpSpPr>
        <p:grpSpPr>
          <a:xfrm>
            <a:off x="971640" y="1197000"/>
            <a:ext cx="803160" cy="1207800"/>
            <a:chOff x="971640" y="1197000"/>
            <a:chExt cx="803160" cy="1207800"/>
          </a:xfrm>
        </p:grpSpPr>
        <p:grpSp>
          <p:nvGrpSpPr>
            <p:cNvPr id="197" name="Group 681"/>
            <p:cNvGrpSpPr/>
            <p:nvPr/>
          </p:nvGrpSpPr>
          <p:grpSpPr>
            <a:xfrm>
              <a:off x="971640" y="1197000"/>
              <a:ext cx="803160" cy="1207800"/>
              <a:chOff x="971640" y="1197000"/>
              <a:chExt cx="803160" cy="1207800"/>
            </a:xfrm>
          </p:grpSpPr>
          <p:sp>
            <p:nvSpPr>
              <p:cNvPr id="198" name="Freeform 682"/>
              <p:cNvSpPr/>
              <p:nvPr/>
            </p:nvSpPr>
            <p:spPr>
              <a:xfrm>
                <a:off x="971640" y="1395720"/>
                <a:ext cx="803160" cy="99828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998280"/>
                  <a:gd name="textAreaBottom" fmla="*/ 998640 h 99828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3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683"/>
              <p:cNvSpPr/>
              <p:nvPr/>
            </p:nvSpPr>
            <p:spPr>
              <a:xfrm>
                <a:off x="1412640" y="1197000"/>
                <a:ext cx="154080" cy="2610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684"/>
              <p:cNvSpPr/>
              <p:nvPr/>
            </p:nvSpPr>
            <p:spPr>
              <a:xfrm>
                <a:off x="1095840" y="1743120"/>
                <a:ext cx="669960" cy="596880"/>
              </a:xfrm>
              <a:custGeom>
                <a:avLst/>
                <a:gdLst>
                  <a:gd name="textAreaLeft" fmla="*/ 0 w 669960"/>
                  <a:gd name="textAreaRight" fmla="*/ 669960 w 66996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3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85"/>
              <p:cNvSpPr/>
              <p:nvPr/>
            </p:nvSpPr>
            <p:spPr>
              <a:xfrm>
                <a:off x="1352880" y="1965240"/>
                <a:ext cx="192240" cy="1278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3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86"/>
              <p:cNvSpPr/>
              <p:nvPr/>
            </p:nvSpPr>
            <p:spPr>
              <a:xfrm>
                <a:off x="1298160" y="2371320"/>
                <a:ext cx="96840" cy="33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Text Box 687"/>
            <p:cNvSpPr/>
            <p:nvPr/>
          </p:nvSpPr>
          <p:spPr>
            <a:xfrm>
              <a:off x="1061640" y="17607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6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688"/>
          <p:cNvGrpSpPr/>
          <p:nvPr/>
        </p:nvGrpSpPr>
        <p:grpSpPr>
          <a:xfrm>
            <a:off x="2987640" y="1071720"/>
            <a:ext cx="866160" cy="1620000"/>
            <a:chOff x="2987640" y="1071720"/>
            <a:chExt cx="866160" cy="1620000"/>
          </a:xfrm>
        </p:grpSpPr>
        <p:grpSp>
          <p:nvGrpSpPr>
            <p:cNvPr id="205" name="Group 689"/>
            <p:cNvGrpSpPr/>
            <p:nvPr/>
          </p:nvGrpSpPr>
          <p:grpSpPr>
            <a:xfrm>
              <a:off x="2987640" y="1071720"/>
              <a:ext cx="803160" cy="1620000"/>
              <a:chOff x="2987640" y="1071720"/>
              <a:chExt cx="803160" cy="1620000"/>
            </a:xfrm>
          </p:grpSpPr>
          <p:sp>
            <p:nvSpPr>
              <p:cNvPr id="206" name="Freeform 690"/>
              <p:cNvSpPr/>
              <p:nvPr/>
            </p:nvSpPr>
            <p:spPr>
              <a:xfrm>
                <a:off x="2987640" y="1338480"/>
                <a:ext cx="803160" cy="133884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1338840"/>
                  <a:gd name="textAreaBottom" fmla="*/ 1338840 h 133884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4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691"/>
              <p:cNvSpPr/>
              <p:nvPr/>
            </p:nvSpPr>
            <p:spPr>
              <a:xfrm>
                <a:off x="3428640" y="1071720"/>
                <a:ext cx="154080" cy="3499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349920"/>
                  <a:gd name="textAreaBottom" fmla="*/ 349920 h 34992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92"/>
              <p:cNvSpPr/>
              <p:nvPr/>
            </p:nvSpPr>
            <p:spPr>
              <a:xfrm>
                <a:off x="3111840" y="1804320"/>
                <a:ext cx="669960" cy="800280"/>
              </a:xfrm>
              <a:custGeom>
                <a:avLst/>
                <a:gdLst>
                  <a:gd name="textAreaLeft" fmla="*/ 0 w 669960"/>
                  <a:gd name="textAreaRight" fmla="*/ 669960 w 669960"/>
                  <a:gd name="textAreaTop" fmla="*/ 0 h 800280"/>
                  <a:gd name="textAreaBottom" fmla="*/ 800640 h 80028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4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93"/>
              <p:cNvSpPr/>
              <p:nvPr/>
            </p:nvSpPr>
            <p:spPr>
              <a:xfrm>
                <a:off x="3368880" y="2102040"/>
                <a:ext cx="192240" cy="17136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4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94"/>
              <p:cNvSpPr/>
              <p:nvPr/>
            </p:nvSpPr>
            <p:spPr>
              <a:xfrm>
                <a:off x="3314160" y="2646720"/>
                <a:ext cx="96840" cy="450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Text Box 695"/>
            <p:cNvSpPr/>
            <p:nvPr/>
          </p:nvSpPr>
          <p:spPr>
            <a:xfrm>
              <a:off x="3078720" y="182772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0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01"/>
          <p:cNvGrpSpPr/>
          <p:nvPr/>
        </p:nvGrpSpPr>
        <p:grpSpPr>
          <a:xfrm>
            <a:off x="2219760" y="563040"/>
            <a:ext cx="1082160" cy="864360"/>
            <a:chOff x="2219760" y="563040"/>
            <a:chExt cx="1082160" cy="864360"/>
          </a:xfrm>
        </p:grpSpPr>
        <p:sp>
          <p:nvSpPr>
            <p:cNvPr id="213" name="Freeform 102"/>
            <p:cNvSpPr/>
            <p:nvPr/>
          </p:nvSpPr>
          <p:spPr>
            <a:xfrm rot="21072000">
              <a:off x="2932200" y="898200"/>
              <a:ext cx="333000" cy="50652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103"/>
            <p:cNvGrpSpPr/>
            <p:nvPr/>
          </p:nvGrpSpPr>
          <p:grpSpPr>
            <a:xfrm>
              <a:off x="2219760" y="563040"/>
              <a:ext cx="999720" cy="722520"/>
              <a:chOff x="2219760" y="563040"/>
              <a:chExt cx="999720" cy="722520"/>
            </a:xfrm>
          </p:grpSpPr>
          <p:grpSp>
            <p:nvGrpSpPr>
              <p:cNvPr id="215" name="Group 104"/>
              <p:cNvGrpSpPr/>
              <p:nvPr/>
            </p:nvGrpSpPr>
            <p:grpSpPr>
              <a:xfrm>
                <a:off x="2219760" y="563040"/>
                <a:ext cx="999720" cy="722520"/>
                <a:chOff x="2219760" y="563040"/>
                <a:chExt cx="999720" cy="722520"/>
              </a:xfrm>
            </p:grpSpPr>
            <p:sp>
              <p:nvSpPr>
                <p:cNvPr id="216" name="Freeform 105"/>
                <p:cNvSpPr/>
                <p:nvPr/>
              </p:nvSpPr>
              <p:spPr>
                <a:xfrm rot="1269600">
                  <a:off x="2301480" y="720720"/>
                  <a:ext cx="911880" cy="204480"/>
                </a:xfrm>
                <a:custGeom>
                  <a:avLst/>
                  <a:gdLst>
                    <a:gd name="textAreaLeft" fmla="*/ 0 w 911880"/>
                    <a:gd name="textAreaRight" fmla="*/ 912240 w 91188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43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106"/>
                <p:cNvSpPr/>
                <p:nvPr/>
              </p:nvSpPr>
              <p:spPr>
                <a:xfrm rot="1269600">
                  <a:off x="2237040" y="855720"/>
                  <a:ext cx="932040" cy="270360"/>
                </a:xfrm>
                <a:custGeom>
                  <a:avLst/>
                  <a:gdLst>
                    <a:gd name="textAreaLeft" fmla="*/ 0 w 932040"/>
                    <a:gd name="textAreaRight" fmla="*/ 932400 w 932040"/>
                    <a:gd name="textAreaTop" fmla="*/ 0 h 270360"/>
                    <a:gd name="textAreaBottom" fmla="*/ 270720 h 2703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44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Freeform 107"/>
              <p:cNvSpPr/>
              <p:nvPr/>
            </p:nvSpPr>
            <p:spPr>
              <a:xfrm rot="1269600">
                <a:off x="2940480" y="977400"/>
                <a:ext cx="93600" cy="1911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08"/>
              <p:cNvSpPr/>
              <p:nvPr/>
            </p:nvSpPr>
            <p:spPr>
              <a:xfrm rot="1269600">
                <a:off x="2819880" y="930600"/>
                <a:ext cx="93600" cy="1911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09"/>
              <p:cNvSpPr/>
              <p:nvPr/>
            </p:nvSpPr>
            <p:spPr>
              <a:xfrm rot="1269600">
                <a:off x="2702880" y="908280"/>
                <a:ext cx="77040" cy="1220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10"/>
              <p:cNvSpPr/>
              <p:nvPr/>
            </p:nvSpPr>
            <p:spPr>
              <a:xfrm rot="1269600">
                <a:off x="2842560" y="827280"/>
                <a:ext cx="120240" cy="954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11"/>
              <p:cNvSpPr/>
              <p:nvPr/>
            </p:nvSpPr>
            <p:spPr>
              <a:xfrm rot="1269600">
                <a:off x="2940120" y="855360"/>
                <a:ext cx="128880" cy="1062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Group 697"/>
          <p:cNvGrpSpPr/>
          <p:nvPr/>
        </p:nvGrpSpPr>
        <p:grpSpPr>
          <a:xfrm>
            <a:off x="1140840" y="923400"/>
            <a:ext cx="1082160" cy="864360"/>
            <a:chOff x="1140840" y="923400"/>
            <a:chExt cx="1082160" cy="864360"/>
          </a:xfrm>
        </p:grpSpPr>
        <p:sp>
          <p:nvSpPr>
            <p:cNvPr id="224" name="Freeform 698"/>
            <p:cNvSpPr/>
            <p:nvPr/>
          </p:nvSpPr>
          <p:spPr>
            <a:xfrm rot="21072000">
              <a:off x="1853280" y="1258560"/>
              <a:ext cx="333000" cy="50652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699"/>
            <p:cNvGrpSpPr/>
            <p:nvPr/>
          </p:nvGrpSpPr>
          <p:grpSpPr>
            <a:xfrm>
              <a:off x="1140840" y="923400"/>
              <a:ext cx="999360" cy="721800"/>
              <a:chOff x="1140840" y="923400"/>
              <a:chExt cx="999360" cy="721800"/>
            </a:xfrm>
          </p:grpSpPr>
          <p:grpSp>
            <p:nvGrpSpPr>
              <p:cNvPr id="226" name="Group 700"/>
              <p:cNvGrpSpPr/>
              <p:nvPr/>
            </p:nvGrpSpPr>
            <p:grpSpPr>
              <a:xfrm>
                <a:off x="1140840" y="923400"/>
                <a:ext cx="999360" cy="721800"/>
                <a:chOff x="1140840" y="923400"/>
                <a:chExt cx="999360" cy="721800"/>
              </a:xfrm>
            </p:grpSpPr>
            <p:sp>
              <p:nvSpPr>
                <p:cNvPr id="227" name="Freeform 701"/>
                <p:cNvSpPr/>
                <p:nvPr/>
              </p:nvSpPr>
              <p:spPr>
                <a:xfrm rot="1269600">
                  <a:off x="1222200" y="1081080"/>
                  <a:ext cx="911880" cy="204480"/>
                </a:xfrm>
                <a:custGeom>
                  <a:avLst/>
                  <a:gdLst>
                    <a:gd name="textAreaLeft" fmla="*/ 0 w 911880"/>
                    <a:gd name="textAreaRight" fmla="*/ 912240 w 91188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45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02"/>
                <p:cNvSpPr/>
                <p:nvPr/>
              </p:nvSpPr>
              <p:spPr>
                <a:xfrm rot="1269600">
                  <a:off x="1158120" y="1215360"/>
                  <a:ext cx="932040" cy="270360"/>
                </a:xfrm>
                <a:custGeom>
                  <a:avLst/>
                  <a:gdLst>
                    <a:gd name="textAreaLeft" fmla="*/ 0 w 932040"/>
                    <a:gd name="textAreaRight" fmla="*/ 932400 w 932040"/>
                    <a:gd name="textAreaTop" fmla="*/ 0 h 270360"/>
                    <a:gd name="textAreaBottom" fmla="*/ 270720 h 2703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46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Freeform 703"/>
              <p:cNvSpPr/>
              <p:nvPr/>
            </p:nvSpPr>
            <p:spPr>
              <a:xfrm rot="1269600">
                <a:off x="1861560" y="1337400"/>
                <a:ext cx="93600" cy="1911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704"/>
              <p:cNvSpPr/>
              <p:nvPr/>
            </p:nvSpPr>
            <p:spPr>
              <a:xfrm rot="1269600">
                <a:off x="1740960" y="1290600"/>
                <a:ext cx="93600" cy="1911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705"/>
              <p:cNvSpPr/>
              <p:nvPr/>
            </p:nvSpPr>
            <p:spPr>
              <a:xfrm rot="1269600">
                <a:off x="1623960" y="1268280"/>
                <a:ext cx="77040" cy="1220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706"/>
              <p:cNvSpPr/>
              <p:nvPr/>
            </p:nvSpPr>
            <p:spPr>
              <a:xfrm rot="1269600">
                <a:off x="1763280" y="1187280"/>
                <a:ext cx="120240" cy="954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707"/>
              <p:cNvSpPr/>
              <p:nvPr/>
            </p:nvSpPr>
            <p:spPr>
              <a:xfrm rot="1269600">
                <a:off x="1861200" y="1215360"/>
                <a:ext cx="128880" cy="1062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Group 708"/>
          <p:cNvGrpSpPr/>
          <p:nvPr/>
        </p:nvGrpSpPr>
        <p:grpSpPr>
          <a:xfrm>
            <a:off x="2855880" y="1057680"/>
            <a:ext cx="1214280" cy="839160"/>
            <a:chOff x="2855880" y="1057680"/>
            <a:chExt cx="1214280" cy="839160"/>
          </a:xfrm>
        </p:grpSpPr>
        <p:sp>
          <p:nvSpPr>
            <p:cNvPr id="235" name="Freeform 709"/>
            <p:cNvSpPr/>
            <p:nvPr/>
          </p:nvSpPr>
          <p:spPr>
            <a:xfrm flipH="1" rot="3666000">
              <a:off x="2990880" y="1072440"/>
              <a:ext cx="333000" cy="506520"/>
            </a:xfrm>
            <a:custGeom>
              <a:avLst/>
              <a:gdLst>
                <a:gd name="textAreaLeft" fmla="*/ -360 w 333000"/>
                <a:gd name="textAreaRight" fmla="*/ 333000 w 3330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710"/>
            <p:cNvGrpSpPr/>
            <p:nvPr/>
          </p:nvGrpSpPr>
          <p:grpSpPr>
            <a:xfrm>
              <a:off x="3059280" y="1072080"/>
              <a:ext cx="1010880" cy="824760"/>
              <a:chOff x="3059280" y="1072080"/>
              <a:chExt cx="1010880" cy="824760"/>
            </a:xfrm>
          </p:grpSpPr>
          <p:grpSp>
            <p:nvGrpSpPr>
              <p:cNvPr id="237" name="Group 711"/>
              <p:cNvGrpSpPr/>
              <p:nvPr/>
            </p:nvGrpSpPr>
            <p:grpSpPr>
              <a:xfrm>
                <a:off x="3059280" y="1072080"/>
                <a:ext cx="1010880" cy="824760"/>
                <a:chOff x="3059280" y="1072080"/>
                <a:chExt cx="1010880" cy="824760"/>
              </a:xfrm>
            </p:grpSpPr>
            <p:sp>
              <p:nvSpPr>
                <p:cNvPr id="238" name="Freeform 712"/>
                <p:cNvSpPr/>
                <p:nvPr/>
              </p:nvSpPr>
              <p:spPr>
                <a:xfrm flipH="1" rot="1868400">
                  <a:off x="3170880" y="1292760"/>
                  <a:ext cx="911520" cy="204480"/>
                </a:xfrm>
                <a:custGeom>
                  <a:avLst/>
                  <a:gdLst>
                    <a:gd name="textAreaLeft" fmla="*/ 360 w 911520"/>
                    <a:gd name="textAreaRight" fmla="*/ 912240 w 91152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47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713"/>
                <p:cNvSpPr/>
                <p:nvPr/>
              </p:nvSpPr>
              <p:spPr>
                <a:xfrm flipH="1" rot="1868400">
                  <a:off x="3061440" y="1405440"/>
                  <a:ext cx="931680" cy="270000"/>
                </a:xfrm>
                <a:custGeom>
                  <a:avLst/>
                  <a:gdLst>
                    <a:gd name="textAreaLeft" fmla="*/ 360 w 931680"/>
                    <a:gd name="textAreaRight" fmla="*/ 932400 w 931680"/>
                    <a:gd name="textAreaTop" fmla="*/ 0 h 270000"/>
                    <a:gd name="textAreaBottom" fmla="*/ 270360 h 27000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48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" name="Freeform 714"/>
              <p:cNvSpPr/>
              <p:nvPr/>
            </p:nvSpPr>
            <p:spPr>
              <a:xfrm flipH="1" rot="1868400">
                <a:off x="3242880" y="1270080"/>
                <a:ext cx="93240" cy="19116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715"/>
              <p:cNvSpPr/>
              <p:nvPr/>
            </p:nvSpPr>
            <p:spPr>
              <a:xfrm flipH="1" rot="1868400">
                <a:off x="3353040" y="1336680"/>
                <a:ext cx="93240" cy="19116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716"/>
              <p:cNvSpPr/>
              <p:nvPr/>
            </p:nvSpPr>
            <p:spPr>
              <a:xfrm flipH="1" rot="1868400">
                <a:off x="3481920" y="1435320"/>
                <a:ext cx="77040" cy="122040"/>
              </a:xfrm>
              <a:custGeom>
                <a:avLst/>
                <a:gdLst>
                  <a:gd name="textAreaLeft" fmla="*/ 360 w 77040"/>
                  <a:gd name="textAreaRight" fmla="*/ 77760 w 770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717"/>
              <p:cNvSpPr/>
              <p:nvPr/>
            </p:nvSpPr>
            <p:spPr>
              <a:xfrm flipH="1" rot="1868400">
                <a:off x="3436920" y="1263600"/>
                <a:ext cx="120240" cy="95400"/>
              </a:xfrm>
              <a:custGeom>
                <a:avLst/>
                <a:gdLst>
                  <a:gd name="textAreaLeft" fmla="*/ 360 w 120240"/>
                  <a:gd name="textAreaRight" fmla="*/ 120960 w 120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718"/>
              <p:cNvSpPr/>
              <p:nvPr/>
            </p:nvSpPr>
            <p:spPr>
              <a:xfrm flipH="1" rot="1868400">
                <a:off x="3342960" y="1198080"/>
                <a:ext cx="128880" cy="106200"/>
              </a:xfrm>
              <a:custGeom>
                <a:avLst/>
                <a:gdLst>
                  <a:gd name="textAreaLeft" fmla="*/ 360 w 128880"/>
                  <a:gd name="textAreaRight" fmla="*/ 129600 w 128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Group 719"/>
          <p:cNvGrpSpPr/>
          <p:nvPr/>
        </p:nvGrpSpPr>
        <p:grpSpPr>
          <a:xfrm>
            <a:off x="1848240" y="1921320"/>
            <a:ext cx="1214280" cy="839520"/>
            <a:chOff x="1848240" y="1921320"/>
            <a:chExt cx="1214280" cy="839520"/>
          </a:xfrm>
        </p:grpSpPr>
        <p:sp>
          <p:nvSpPr>
            <p:cNvPr id="246" name="Freeform 720"/>
            <p:cNvSpPr/>
            <p:nvPr/>
          </p:nvSpPr>
          <p:spPr>
            <a:xfrm flipH="1" rot="3666000">
              <a:off x="1983240" y="1936080"/>
              <a:ext cx="333000" cy="506520"/>
            </a:xfrm>
            <a:custGeom>
              <a:avLst/>
              <a:gdLst>
                <a:gd name="textAreaLeft" fmla="*/ -360 w 333000"/>
                <a:gd name="textAreaRight" fmla="*/ 333000 w 3330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721"/>
            <p:cNvGrpSpPr/>
            <p:nvPr/>
          </p:nvGrpSpPr>
          <p:grpSpPr>
            <a:xfrm>
              <a:off x="2051280" y="1935360"/>
              <a:ext cx="1011240" cy="825480"/>
              <a:chOff x="2051280" y="1935360"/>
              <a:chExt cx="1011240" cy="825480"/>
            </a:xfrm>
          </p:grpSpPr>
          <p:grpSp>
            <p:nvGrpSpPr>
              <p:cNvPr id="248" name="Group 722"/>
              <p:cNvGrpSpPr/>
              <p:nvPr/>
            </p:nvGrpSpPr>
            <p:grpSpPr>
              <a:xfrm>
                <a:off x="2051280" y="1935360"/>
                <a:ext cx="1011240" cy="825480"/>
                <a:chOff x="2051280" y="1935360"/>
                <a:chExt cx="1011240" cy="825480"/>
              </a:xfrm>
            </p:grpSpPr>
            <p:sp>
              <p:nvSpPr>
                <p:cNvPr id="249" name="Freeform 723"/>
                <p:cNvSpPr/>
                <p:nvPr/>
              </p:nvSpPr>
              <p:spPr>
                <a:xfrm flipH="1" rot="1868400">
                  <a:off x="2163240" y="2156400"/>
                  <a:ext cx="911880" cy="204480"/>
                </a:xfrm>
                <a:custGeom>
                  <a:avLst/>
                  <a:gdLst>
                    <a:gd name="textAreaLeft" fmla="*/ -360 w 911880"/>
                    <a:gd name="textAreaRight" fmla="*/ 911880 w 91188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49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724"/>
                <p:cNvSpPr/>
                <p:nvPr/>
              </p:nvSpPr>
              <p:spPr>
                <a:xfrm flipH="1" rot="1868400">
                  <a:off x="2053800" y="2268720"/>
                  <a:ext cx="932040" cy="270360"/>
                </a:xfrm>
                <a:custGeom>
                  <a:avLst/>
                  <a:gdLst>
                    <a:gd name="textAreaLeft" fmla="*/ -360 w 932040"/>
                    <a:gd name="textAreaRight" fmla="*/ 932040 w 932040"/>
                    <a:gd name="textAreaTop" fmla="*/ 0 h 270360"/>
                    <a:gd name="textAreaBottom" fmla="*/ 270720 h 2703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50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" name="Freeform 725"/>
              <p:cNvSpPr/>
              <p:nvPr/>
            </p:nvSpPr>
            <p:spPr>
              <a:xfrm flipH="1" rot="1868400">
                <a:off x="2234160" y="2133720"/>
                <a:ext cx="93600" cy="190800"/>
              </a:xfrm>
              <a:custGeom>
                <a:avLst/>
                <a:gdLst>
                  <a:gd name="textAreaLeft" fmla="*/ 360 w 93600"/>
                  <a:gd name="textAreaRight" fmla="*/ 94320 w 936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726"/>
              <p:cNvSpPr/>
              <p:nvPr/>
            </p:nvSpPr>
            <p:spPr>
              <a:xfrm flipH="1" rot="1868400">
                <a:off x="2345040" y="2200680"/>
                <a:ext cx="93600" cy="190800"/>
              </a:xfrm>
              <a:custGeom>
                <a:avLst/>
                <a:gdLst>
                  <a:gd name="textAreaLeft" fmla="*/ 360 w 93600"/>
                  <a:gd name="textAreaRight" fmla="*/ 94320 w 936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727"/>
              <p:cNvSpPr/>
              <p:nvPr/>
            </p:nvSpPr>
            <p:spPr>
              <a:xfrm flipH="1" rot="1868400">
                <a:off x="2473920" y="2298960"/>
                <a:ext cx="77040" cy="122040"/>
              </a:xfrm>
              <a:custGeom>
                <a:avLst/>
                <a:gdLst>
                  <a:gd name="textAreaLeft" fmla="*/ 360 w 77040"/>
                  <a:gd name="textAreaRight" fmla="*/ 77760 w 770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728"/>
              <p:cNvSpPr/>
              <p:nvPr/>
            </p:nvSpPr>
            <p:spPr>
              <a:xfrm flipH="1" rot="1868400">
                <a:off x="2428920" y="2127240"/>
                <a:ext cx="120240" cy="95400"/>
              </a:xfrm>
              <a:custGeom>
                <a:avLst/>
                <a:gdLst>
                  <a:gd name="textAreaLeft" fmla="*/ 360 w 120240"/>
                  <a:gd name="textAreaRight" fmla="*/ 120960 w 120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729"/>
              <p:cNvSpPr/>
              <p:nvPr/>
            </p:nvSpPr>
            <p:spPr>
              <a:xfrm flipH="1" rot="1868400">
                <a:off x="2335320" y="2061720"/>
                <a:ext cx="128880" cy="106200"/>
              </a:xfrm>
              <a:custGeom>
                <a:avLst/>
                <a:gdLst>
                  <a:gd name="textAreaLeft" fmla="*/ 360 w 128880"/>
                  <a:gd name="textAreaRight" fmla="*/ 129600 w 128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" name="Group 730"/>
          <p:cNvGrpSpPr/>
          <p:nvPr/>
        </p:nvGrpSpPr>
        <p:grpSpPr>
          <a:xfrm>
            <a:off x="1343520" y="3505680"/>
            <a:ext cx="1214280" cy="839520"/>
            <a:chOff x="1343520" y="3505680"/>
            <a:chExt cx="1214280" cy="839520"/>
          </a:xfrm>
        </p:grpSpPr>
        <p:sp>
          <p:nvSpPr>
            <p:cNvPr id="257" name="Freeform 731"/>
            <p:cNvSpPr/>
            <p:nvPr/>
          </p:nvSpPr>
          <p:spPr>
            <a:xfrm flipH="1" rot="3666000">
              <a:off x="1478520" y="3520440"/>
              <a:ext cx="333000" cy="506520"/>
            </a:xfrm>
            <a:custGeom>
              <a:avLst/>
              <a:gdLst>
                <a:gd name="textAreaLeft" fmla="*/ -360 w 333000"/>
                <a:gd name="textAreaRight" fmla="*/ 333000 w 3330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732"/>
            <p:cNvGrpSpPr/>
            <p:nvPr/>
          </p:nvGrpSpPr>
          <p:grpSpPr>
            <a:xfrm>
              <a:off x="1546560" y="3519720"/>
              <a:ext cx="1011240" cy="825480"/>
              <a:chOff x="1546560" y="3519720"/>
              <a:chExt cx="1011240" cy="825480"/>
            </a:xfrm>
          </p:grpSpPr>
          <p:grpSp>
            <p:nvGrpSpPr>
              <p:cNvPr id="259" name="Group 733"/>
              <p:cNvGrpSpPr/>
              <p:nvPr/>
            </p:nvGrpSpPr>
            <p:grpSpPr>
              <a:xfrm>
                <a:off x="1546560" y="3519720"/>
                <a:ext cx="1011240" cy="825480"/>
                <a:chOff x="1546560" y="3519720"/>
                <a:chExt cx="1011240" cy="825480"/>
              </a:xfrm>
            </p:grpSpPr>
            <p:sp>
              <p:nvSpPr>
                <p:cNvPr id="260" name="Freeform 734"/>
                <p:cNvSpPr/>
                <p:nvPr/>
              </p:nvSpPr>
              <p:spPr>
                <a:xfrm flipH="1" rot="1868400">
                  <a:off x="1658520" y="3740760"/>
                  <a:ext cx="911880" cy="204480"/>
                </a:xfrm>
                <a:custGeom>
                  <a:avLst/>
                  <a:gdLst>
                    <a:gd name="textAreaLeft" fmla="*/ -360 w 911880"/>
                    <a:gd name="textAreaRight" fmla="*/ 911880 w 91188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51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735"/>
                <p:cNvSpPr/>
                <p:nvPr/>
              </p:nvSpPr>
              <p:spPr>
                <a:xfrm flipH="1" rot="1868400">
                  <a:off x="1549080" y="3853080"/>
                  <a:ext cx="932040" cy="270360"/>
                </a:xfrm>
                <a:custGeom>
                  <a:avLst/>
                  <a:gdLst>
                    <a:gd name="textAreaLeft" fmla="*/ -360 w 932040"/>
                    <a:gd name="textAreaRight" fmla="*/ 932040 w 932040"/>
                    <a:gd name="textAreaTop" fmla="*/ 0 h 270360"/>
                    <a:gd name="textAreaBottom" fmla="*/ 270720 h 2703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52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Freeform 736"/>
              <p:cNvSpPr/>
              <p:nvPr/>
            </p:nvSpPr>
            <p:spPr>
              <a:xfrm flipH="1" rot="1868400">
                <a:off x="1729440" y="3718080"/>
                <a:ext cx="93600" cy="190800"/>
              </a:xfrm>
              <a:custGeom>
                <a:avLst/>
                <a:gdLst>
                  <a:gd name="textAreaLeft" fmla="*/ 360 w 93600"/>
                  <a:gd name="textAreaRight" fmla="*/ 94320 w 936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37"/>
              <p:cNvSpPr/>
              <p:nvPr/>
            </p:nvSpPr>
            <p:spPr>
              <a:xfrm flipH="1" rot="1868400">
                <a:off x="1840320" y="3785040"/>
                <a:ext cx="93600" cy="190800"/>
              </a:xfrm>
              <a:custGeom>
                <a:avLst/>
                <a:gdLst>
                  <a:gd name="textAreaLeft" fmla="*/ 360 w 93600"/>
                  <a:gd name="textAreaRight" fmla="*/ 94320 w 936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738"/>
              <p:cNvSpPr/>
              <p:nvPr/>
            </p:nvSpPr>
            <p:spPr>
              <a:xfrm flipH="1" rot="1868400">
                <a:off x="1969200" y="3883320"/>
                <a:ext cx="77040" cy="122040"/>
              </a:xfrm>
              <a:custGeom>
                <a:avLst/>
                <a:gdLst>
                  <a:gd name="textAreaLeft" fmla="*/ 360 w 77040"/>
                  <a:gd name="textAreaRight" fmla="*/ 77760 w 770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739"/>
              <p:cNvSpPr/>
              <p:nvPr/>
            </p:nvSpPr>
            <p:spPr>
              <a:xfrm flipH="1" rot="1868400">
                <a:off x="1924200" y="3711600"/>
                <a:ext cx="120240" cy="95400"/>
              </a:xfrm>
              <a:custGeom>
                <a:avLst/>
                <a:gdLst>
                  <a:gd name="textAreaLeft" fmla="*/ 360 w 120240"/>
                  <a:gd name="textAreaRight" fmla="*/ 120960 w 120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740"/>
              <p:cNvSpPr/>
              <p:nvPr/>
            </p:nvSpPr>
            <p:spPr>
              <a:xfrm flipH="1" rot="1868400">
                <a:off x="1830600" y="3646080"/>
                <a:ext cx="128880" cy="106200"/>
              </a:xfrm>
              <a:custGeom>
                <a:avLst/>
                <a:gdLst>
                  <a:gd name="textAreaLeft" fmla="*/ 360 w 128880"/>
                  <a:gd name="textAreaRight" fmla="*/ 129600 w 128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Text Box 742"/>
          <p:cNvSpPr/>
          <p:nvPr/>
        </p:nvSpPr>
        <p:spPr>
          <a:xfrm>
            <a:off x="4932360" y="98100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йди числа, которые меньше 0, и щелкни по ним мыш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43"/>
          <p:cNvSpPr/>
          <p:nvPr/>
        </p:nvSpPr>
        <p:spPr>
          <a:xfrm>
            <a:off x="4064400" y="333360"/>
            <a:ext cx="36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обери УРОЖ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744"/>
          <p:cNvGrpSpPr/>
          <p:nvPr/>
        </p:nvGrpSpPr>
        <p:grpSpPr>
          <a:xfrm>
            <a:off x="1857240" y="3286080"/>
            <a:ext cx="1116000" cy="1152360"/>
            <a:chOff x="1857240" y="3286080"/>
            <a:chExt cx="1116000" cy="1152360"/>
          </a:xfrm>
        </p:grpSpPr>
        <p:grpSp>
          <p:nvGrpSpPr>
            <p:cNvPr id="270" name="Group 745"/>
            <p:cNvGrpSpPr/>
            <p:nvPr/>
          </p:nvGrpSpPr>
          <p:grpSpPr>
            <a:xfrm>
              <a:off x="1969920" y="3286080"/>
              <a:ext cx="792360" cy="1152360"/>
              <a:chOff x="1969920" y="3286080"/>
              <a:chExt cx="792360" cy="1152360"/>
            </a:xfrm>
          </p:grpSpPr>
          <p:sp>
            <p:nvSpPr>
              <p:cNvPr id="271" name="Freeform 746"/>
              <p:cNvSpPr/>
              <p:nvPr/>
            </p:nvSpPr>
            <p:spPr>
              <a:xfrm>
                <a:off x="1969920" y="3475800"/>
                <a:ext cx="792360" cy="952200"/>
              </a:xfrm>
              <a:custGeom>
                <a:avLst/>
                <a:gdLst>
                  <a:gd name="textAreaLeft" fmla="*/ 0 w 792360"/>
                  <a:gd name="textAreaRight" fmla="*/ 792720 w 792360"/>
                  <a:gd name="textAreaTop" fmla="*/ 0 h 952200"/>
                  <a:gd name="textAreaBottom" fmla="*/ 952560 h 95220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5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747"/>
              <p:cNvSpPr/>
              <p:nvPr/>
            </p:nvSpPr>
            <p:spPr>
              <a:xfrm>
                <a:off x="2407320" y="3286080"/>
                <a:ext cx="151920" cy="2487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748"/>
              <p:cNvSpPr/>
              <p:nvPr/>
            </p:nvSpPr>
            <p:spPr>
              <a:xfrm>
                <a:off x="2094120" y="3807000"/>
                <a:ext cx="661680" cy="569160"/>
              </a:xfrm>
              <a:custGeom>
                <a:avLst/>
                <a:gdLst>
                  <a:gd name="textAreaLeft" fmla="*/ 0 w 661680"/>
                  <a:gd name="textAreaRight" fmla="*/ 661680 w 661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5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749"/>
              <p:cNvSpPr/>
              <p:nvPr/>
            </p:nvSpPr>
            <p:spPr>
              <a:xfrm>
                <a:off x="2347920" y="4019040"/>
                <a:ext cx="190080" cy="1216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5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750"/>
              <p:cNvSpPr/>
              <p:nvPr/>
            </p:nvSpPr>
            <p:spPr>
              <a:xfrm>
                <a:off x="2293920" y="4406400"/>
                <a:ext cx="95760" cy="3204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751"/>
            <p:cNvSpPr/>
            <p:nvPr/>
          </p:nvSpPr>
          <p:spPr>
            <a:xfrm>
              <a:off x="1857240" y="3857400"/>
              <a:ext cx="11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- 10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52"/>
          <p:cNvGrpSpPr/>
          <p:nvPr/>
        </p:nvGrpSpPr>
        <p:grpSpPr>
          <a:xfrm>
            <a:off x="3492360" y="2565360"/>
            <a:ext cx="803160" cy="1207800"/>
            <a:chOff x="3492360" y="2565360"/>
            <a:chExt cx="803160" cy="1207800"/>
          </a:xfrm>
        </p:grpSpPr>
        <p:grpSp>
          <p:nvGrpSpPr>
            <p:cNvPr id="278" name="Group 39"/>
            <p:cNvGrpSpPr/>
            <p:nvPr/>
          </p:nvGrpSpPr>
          <p:grpSpPr>
            <a:xfrm>
              <a:off x="3492360" y="2565360"/>
              <a:ext cx="803160" cy="1207800"/>
              <a:chOff x="3492360" y="2565360"/>
              <a:chExt cx="803160" cy="1207800"/>
            </a:xfrm>
          </p:grpSpPr>
          <p:sp>
            <p:nvSpPr>
              <p:cNvPr id="279" name="Freeform 40"/>
              <p:cNvSpPr/>
              <p:nvPr/>
            </p:nvSpPr>
            <p:spPr>
              <a:xfrm>
                <a:off x="3492360" y="2764080"/>
                <a:ext cx="803160" cy="99828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998280"/>
                  <a:gd name="textAreaBottom" fmla="*/ 998640 h 99828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5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41"/>
              <p:cNvSpPr/>
              <p:nvPr/>
            </p:nvSpPr>
            <p:spPr>
              <a:xfrm>
                <a:off x="3933360" y="2565360"/>
                <a:ext cx="154080" cy="2610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42"/>
              <p:cNvSpPr/>
              <p:nvPr/>
            </p:nvSpPr>
            <p:spPr>
              <a:xfrm>
                <a:off x="3616560" y="3111480"/>
                <a:ext cx="669960" cy="596880"/>
              </a:xfrm>
              <a:custGeom>
                <a:avLst/>
                <a:gdLst>
                  <a:gd name="textAreaLeft" fmla="*/ 0 w 669960"/>
                  <a:gd name="textAreaRight" fmla="*/ 669960 w 66996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5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43"/>
              <p:cNvSpPr/>
              <p:nvPr/>
            </p:nvSpPr>
            <p:spPr>
              <a:xfrm>
                <a:off x="3873600" y="3333600"/>
                <a:ext cx="192240" cy="1278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5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4"/>
              <p:cNvSpPr/>
              <p:nvPr/>
            </p:nvSpPr>
            <p:spPr>
              <a:xfrm>
                <a:off x="3818880" y="3739680"/>
                <a:ext cx="96840" cy="33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51"/>
            <p:cNvSpPr/>
            <p:nvPr/>
          </p:nvSpPr>
          <p:spPr>
            <a:xfrm>
              <a:off x="3582360" y="3129120"/>
              <a:ext cx="69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icture 752" descr="Ins09"/>
          <p:cNvPicPr/>
          <p:nvPr/>
        </p:nvPicPr>
        <p:blipFill>
          <a:blip r:embed="rId59"/>
          <a:stretch/>
        </p:blipFill>
        <p:spPr>
          <a:xfrm>
            <a:off x="5715000" y="5891040"/>
            <a:ext cx="2651040" cy="966960"/>
          </a:xfrm>
          <a:prstGeom prst="rect">
            <a:avLst/>
          </a:prstGeom>
          <a:ln w="0">
            <a:noFill/>
          </a:ln>
        </p:spPr>
      </p:pic>
      <p:grpSp>
        <p:nvGrpSpPr>
          <p:cNvPr id="286" name="Group 52"/>
          <p:cNvGrpSpPr/>
          <p:nvPr/>
        </p:nvGrpSpPr>
        <p:grpSpPr>
          <a:xfrm>
            <a:off x="2643120" y="2643120"/>
            <a:ext cx="890640" cy="1207800"/>
            <a:chOff x="2643120" y="2643120"/>
            <a:chExt cx="890640" cy="1207800"/>
          </a:xfrm>
        </p:grpSpPr>
        <p:grpSp>
          <p:nvGrpSpPr>
            <p:cNvPr id="287" name="Group 39"/>
            <p:cNvGrpSpPr/>
            <p:nvPr/>
          </p:nvGrpSpPr>
          <p:grpSpPr>
            <a:xfrm>
              <a:off x="2643120" y="2643120"/>
              <a:ext cx="803160" cy="1207800"/>
              <a:chOff x="2643120" y="2643120"/>
              <a:chExt cx="803160" cy="1207800"/>
            </a:xfrm>
          </p:grpSpPr>
          <p:sp>
            <p:nvSpPr>
              <p:cNvPr id="288" name="Freeform 40"/>
              <p:cNvSpPr/>
              <p:nvPr/>
            </p:nvSpPr>
            <p:spPr>
              <a:xfrm>
                <a:off x="2643120" y="2841840"/>
                <a:ext cx="803160" cy="99828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998280"/>
                  <a:gd name="textAreaBottom" fmla="*/ 998640 h 99828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6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41"/>
              <p:cNvSpPr/>
              <p:nvPr/>
            </p:nvSpPr>
            <p:spPr>
              <a:xfrm>
                <a:off x="3084120" y="2643120"/>
                <a:ext cx="154080" cy="2610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42"/>
              <p:cNvSpPr/>
              <p:nvPr/>
            </p:nvSpPr>
            <p:spPr>
              <a:xfrm>
                <a:off x="2767320" y="3189240"/>
                <a:ext cx="669960" cy="596880"/>
              </a:xfrm>
              <a:custGeom>
                <a:avLst/>
                <a:gdLst>
                  <a:gd name="textAreaLeft" fmla="*/ 0 w 669960"/>
                  <a:gd name="textAreaRight" fmla="*/ 669960 w 66996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6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43"/>
              <p:cNvSpPr/>
              <p:nvPr/>
            </p:nvSpPr>
            <p:spPr>
              <a:xfrm>
                <a:off x="3024360" y="3411360"/>
                <a:ext cx="192240" cy="1278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6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44"/>
              <p:cNvSpPr/>
              <p:nvPr/>
            </p:nvSpPr>
            <p:spPr>
              <a:xfrm>
                <a:off x="2969640" y="3817440"/>
                <a:ext cx="96840" cy="33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 Box 51"/>
            <p:cNvSpPr/>
            <p:nvPr/>
          </p:nvSpPr>
          <p:spPr>
            <a:xfrm>
              <a:off x="2643120" y="3206880"/>
              <a:ext cx="89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- 4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12"/>
          <p:cNvGrpSpPr/>
          <p:nvPr/>
        </p:nvGrpSpPr>
        <p:grpSpPr>
          <a:xfrm>
            <a:off x="2299680" y="-129240"/>
            <a:ext cx="985680" cy="1041480"/>
            <a:chOff x="2299680" y="-129240"/>
            <a:chExt cx="985680" cy="1041480"/>
          </a:xfrm>
        </p:grpSpPr>
        <p:sp>
          <p:nvSpPr>
            <p:cNvPr id="295" name="Freeform 113"/>
            <p:cNvSpPr/>
            <p:nvPr/>
          </p:nvSpPr>
          <p:spPr>
            <a:xfrm rot="444000">
              <a:off x="2921040" y="386280"/>
              <a:ext cx="333000" cy="50652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14"/>
            <p:cNvGrpSpPr/>
            <p:nvPr/>
          </p:nvGrpSpPr>
          <p:grpSpPr>
            <a:xfrm>
              <a:off x="2299680" y="-129240"/>
              <a:ext cx="975960" cy="893880"/>
              <a:chOff x="2299680" y="-129240"/>
              <a:chExt cx="975960" cy="893880"/>
            </a:xfrm>
          </p:grpSpPr>
          <p:grpSp>
            <p:nvGrpSpPr>
              <p:cNvPr id="297" name="Group 115"/>
              <p:cNvGrpSpPr/>
              <p:nvPr/>
            </p:nvGrpSpPr>
            <p:grpSpPr>
              <a:xfrm>
                <a:off x="2299680" y="-129240"/>
                <a:ext cx="975960" cy="893880"/>
                <a:chOff x="2299680" y="-129240"/>
                <a:chExt cx="975960" cy="893880"/>
              </a:xfrm>
            </p:grpSpPr>
            <p:sp>
              <p:nvSpPr>
                <p:cNvPr id="298" name="Freeform 116"/>
                <p:cNvSpPr/>
                <p:nvPr/>
              </p:nvSpPr>
              <p:spPr>
                <a:xfrm rot="2241600">
                  <a:off x="2395080" y="126000"/>
                  <a:ext cx="911520" cy="204480"/>
                </a:xfrm>
                <a:custGeom>
                  <a:avLst/>
                  <a:gdLst>
                    <a:gd name="textAreaLeft" fmla="*/ 0 w 911520"/>
                    <a:gd name="textAreaRight" fmla="*/ 911880 w 91152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63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117"/>
                <p:cNvSpPr/>
                <p:nvPr/>
              </p:nvSpPr>
              <p:spPr>
                <a:xfrm rot="2241600">
                  <a:off x="2286000" y="239400"/>
                  <a:ext cx="931680" cy="270360"/>
                </a:xfrm>
                <a:custGeom>
                  <a:avLst/>
                  <a:gdLst>
                    <a:gd name="textAreaLeft" fmla="*/ 0 w 931680"/>
                    <a:gd name="textAreaRight" fmla="*/ 932040 w 931680"/>
                    <a:gd name="textAreaTop" fmla="*/ 0 h 270360"/>
                    <a:gd name="textAreaBottom" fmla="*/ 270720 h 2703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64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Freeform 118"/>
              <p:cNvSpPr/>
              <p:nvPr/>
            </p:nvSpPr>
            <p:spPr>
              <a:xfrm rot="2241600">
                <a:off x="2955240" y="436680"/>
                <a:ext cx="93240" cy="19116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19"/>
              <p:cNvSpPr/>
              <p:nvPr/>
            </p:nvSpPr>
            <p:spPr>
              <a:xfrm rot="2241600">
                <a:off x="2853000" y="358560"/>
                <a:ext cx="93240" cy="19116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20"/>
              <p:cNvSpPr/>
              <p:nvPr/>
            </p:nvSpPr>
            <p:spPr>
              <a:xfrm rot="2241600">
                <a:off x="2756880" y="303840"/>
                <a:ext cx="77040" cy="1220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21"/>
              <p:cNvSpPr/>
              <p:nvPr/>
            </p:nvSpPr>
            <p:spPr>
              <a:xfrm rot="2241600">
                <a:off x="2916360" y="271080"/>
                <a:ext cx="120240" cy="954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22"/>
              <p:cNvSpPr/>
              <p:nvPr/>
            </p:nvSpPr>
            <p:spPr>
              <a:xfrm rot="2241600">
                <a:off x="3000600" y="326880"/>
                <a:ext cx="128880" cy="1062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96296E-006 L 0.06632 0.35301 E">
                                      <p:cBhvr>
                                        <p:cTn id="6" dur="5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6 L 0.32621 0.59445 E">
                                      <p:cBhvr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0.22448 0.44097 E">
                                      <p:cBhvr>
                                        <p:cTn id="19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">
                                      <p:cBhvr>
                                        <p:cTn id="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1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3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6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22222E-006 L 0.31893 0.3044 E">
                                      <p:cBhvr>
                                        <p:cTn id="86" dur="5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600000">
                                      <p:cBhvr>
                                        <p:cTn id="8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0093 L 0.06545 0.35207 E">
                                      <p:cBhvr>
                                        <p:cTn id="93" dur="5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Сформулируем 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99680" y="1714680"/>
            <a:ext cx="835812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Сумма двух положительных чисел положительна, а сумма двух отрицательных чисел отрицатель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Сумма двух чисел разных знаков может быть как положительным числом, так и отрицательным. Знак суммы зависит от того, какое число «перевесило» – положительное или отрицатель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Управляющая кнопка: возврат 5">
            <a:hlinkClick r:id="rId1" action="ppaction://hlinksldjump"/>
          </p:cNvPr>
          <p:cNvSpPr/>
          <p:nvPr/>
        </p:nvSpPr>
        <p:spPr>
          <a:xfrm>
            <a:off x="850104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5" descr="C:\Documents and Settings\Admin\Рабочий стол\42.gif"/>
          <p:cNvPicPr/>
          <p:nvPr/>
        </p:nvPicPr>
        <p:blipFill>
          <a:blip r:embed="rId2"/>
          <a:stretch/>
        </p:blipFill>
        <p:spPr>
          <a:xfrm>
            <a:off x="5500800" y="50007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Решаем с комментировани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"/>
          <p:cNvSpPr/>
          <p:nvPr/>
        </p:nvSpPr>
        <p:spPr>
          <a:xfrm>
            <a:off x="1357200" y="1785960"/>
            <a:ext cx="72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e00"/>
                </a:solidFill>
                <a:latin typeface="Georgia"/>
              </a:rPr>
              <a:t>Учеб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MCj03701400000[1]"/>
          <p:cNvPicPr/>
          <p:nvPr/>
        </p:nvPicPr>
        <p:blipFill>
          <a:blip r:embed="rId1"/>
          <a:stretch/>
        </p:blipFill>
        <p:spPr>
          <a:xfrm>
            <a:off x="5786280" y="3714840"/>
            <a:ext cx="2714760" cy="286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eorgia"/>
              </a:rPr>
              <a:t>Вычисли сумму и расшифруй имя  индийского математика и астронома, который первым сформулировал правила действий с  целыми чис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42920" y="1600200"/>
          <a:ext cx="8786880" cy="182880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  <a:gridCol w="733320"/>
                <a:gridCol w="731880"/>
                <a:gridCol w="731880"/>
                <a:gridCol w="731880"/>
                <a:gridCol w="733320"/>
                <a:gridCol w="731880"/>
                <a:gridCol w="731880"/>
                <a:gridCol w="731880"/>
                <a:gridCol w="733320"/>
                <a:gridCol w="731880"/>
              </a:tblGrid>
              <a:tr h="609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098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9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+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785920" y="4071960"/>
            <a:ext cx="2900520" cy="2054160"/>
          </a:xfrm>
          <a:prstGeom prst="rect">
            <a:avLst/>
          </a:prstGeom>
          <a:ln w="0">
            <a:noFill/>
          </a:ln>
        </p:spPr>
      </p:pic>
      <p:pic>
        <p:nvPicPr>
          <p:cNvPr id="437" name="Схема 6" descr=""/>
          <p:cNvPicPr/>
          <p:nvPr/>
        </p:nvPicPr>
        <p:blipFill>
          <a:blip r:embed="rId2"/>
          <a:stretch/>
        </p:blipFill>
        <p:spPr>
          <a:xfrm>
            <a:off x="5072040" y="5645160"/>
            <a:ext cx="1425600" cy="1212840"/>
          </a:xfrm>
          <a:prstGeom prst="rect">
            <a:avLst/>
          </a:prstGeom>
          <a:ln w="0">
            <a:noFill/>
          </a:ln>
        </p:spPr>
      </p:pic>
      <p:pic>
        <p:nvPicPr>
          <p:cNvPr id="438" name="Схема 7" descr=""/>
          <p:cNvPicPr/>
          <p:nvPr/>
        </p:nvPicPr>
        <p:blipFill>
          <a:blip r:embed="rId3"/>
          <a:stretch/>
        </p:blipFill>
        <p:spPr>
          <a:xfrm>
            <a:off x="1712880" y="3359160"/>
            <a:ext cx="1432080" cy="1212840"/>
          </a:xfrm>
          <a:prstGeom prst="rect">
            <a:avLst/>
          </a:prstGeom>
          <a:ln w="0">
            <a:noFill/>
          </a:ln>
        </p:spPr>
      </p:pic>
      <p:pic>
        <p:nvPicPr>
          <p:cNvPr id="439" name="Схема 8" descr=""/>
          <p:cNvPicPr/>
          <p:nvPr/>
        </p:nvPicPr>
        <p:blipFill>
          <a:blip r:embed="rId4"/>
          <a:stretch/>
        </p:blipFill>
        <p:spPr>
          <a:xfrm>
            <a:off x="285840" y="3786120"/>
            <a:ext cx="1427040" cy="1212840"/>
          </a:xfrm>
          <a:prstGeom prst="rect">
            <a:avLst/>
          </a:prstGeom>
          <a:ln w="0">
            <a:noFill/>
          </a:ln>
        </p:spPr>
      </p:pic>
      <p:pic>
        <p:nvPicPr>
          <p:cNvPr id="440" name="Схема 9" descr=""/>
          <p:cNvPicPr/>
          <p:nvPr/>
        </p:nvPicPr>
        <p:blipFill>
          <a:blip r:embed="rId5"/>
          <a:stretch/>
        </p:blipFill>
        <p:spPr>
          <a:xfrm>
            <a:off x="426960" y="5145120"/>
            <a:ext cx="1432080" cy="1212840"/>
          </a:xfrm>
          <a:prstGeom prst="rect">
            <a:avLst/>
          </a:prstGeom>
          <a:ln w="0">
            <a:noFill/>
          </a:ln>
        </p:spPr>
      </p:pic>
      <p:pic>
        <p:nvPicPr>
          <p:cNvPr id="441" name="Схема 11" descr=""/>
          <p:cNvPicPr/>
          <p:nvPr/>
        </p:nvPicPr>
        <p:blipFill>
          <a:blip r:embed="rId6"/>
          <a:stretch/>
        </p:blipFill>
        <p:spPr>
          <a:xfrm>
            <a:off x="5145120" y="3213000"/>
            <a:ext cx="1427040" cy="1219320"/>
          </a:xfrm>
          <a:prstGeom prst="rect">
            <a:avLst/>
          </a:prstGeom>
          <a:ln w="0">
            <a:noFill/>
          </a:ln>
        </p:spPr>
      </p:pic>
      <p:pic>
        <p:nvPicPr>
          <p:cNvPr id="442" name="Схема 12" descr=""/>
          <p:cNvPicPr/>
          <p:nvPr/>
        </p:nvPicPr>
        <p:blipFill>
          <a:blip r:embed="rId7"/>
          <a:stretch/>
        </p:blipFill>
        <p:spPr>
          <a:xfrm>
            <a:off x="3286080" y="3213000"/>
            <a:ext cx="1425600" cy="1219320"/>
          </a:xfrm>
          <a:prstGeom prst="rect">
            <a:avLst/>
          </a:prstGeom>
          <a:ln w="0">
            <a:noFill/>
          </a:ln>
        </p:spPr>
      </p:pic>
      <p:pic>
        <p:nvPicPr>
          <p:cNvPr id="443" name="Схема 13" descr=""/>
          <p:cNvPicPr/>
          <p:nvPr/>
        </p:nvPicPr>
        <p:blipFill>
          <a:blip r:embed="rId8"/>
          <a:stretch/>
        </p:blipFill>
        <p:spPr>
          <a:xfrm>
            <a:off x="2212920" y="5645160"/>
            <a:ext cx="1432080" cy="1212840"/>
          </a:xfrm>
          <a:prstGeom prst="rect">
            <a:avLst/>
          </a:prstGeom>
          <a:ln w="0">
            <a:noFill/>
          </a:ln>
        </p:spPr>
      </p:pic>
      <p:pic>
        <p:nvPicPr>
          <p:cNvPr id="444" name="Схема 15" descr=""/>
          <p:cNvPicPr/>
          <p:nvPr/>
        </p:nvPicPr>
        <p:blipFill>
          <a:blip r:embed="rId9"/>
          <a:stretch/>
        </p:blipFill>
        <p:spPr>
          <a:xfrm>
            <a:off x="1785960" y="4572000"/>
            <a:ext cx="1427040" cy="1212840"/>
          </a:xfrm>
          <a:prstGeom prst="rect">
            <a:avLst/>
          </a:prstGeom>
          <a:ln w="0">
            <a:noFill/>
          </a:ln>
        </p:spPr>
      </p:pic>
      <p:pic>
        <p:nvPicPr>
          <p:cNvPr id="445" name="Схема 16" descr=""/>
          <p:cNvPicPr/>
          <p:nvPr/>
        </p:nvPicPr>
        <p:blipFill>
          <a:blip r:embed="rId10"/>
          <a:stretch/>
        </p:blipFill>
        <p:spPr>
          <a:xfrm>
            <a:off x="6931080" y="3071880"/>
            <a:ext cx="1427040" cy="1214280"/>
          </a:xfrm>
          <a:prstGeom prst="rect">
            <a:avLst/>
          </a:prstGeom>
          <a:ln w="0">
            <a:noFill/>
          </a:ln>
        </p:spPr>
      </p:pic>
      <p:pic>
        <p:nvPicPr>
          <p:cNvPr id="446" name="Схема 17" descr=""/>
          <p:cNvPicPr/>
          <p:nvPr/>
        </p:nvPicPr>
        <p:blipFill>
          <a:blip r:embed="rId11"/>
          <a:stretch/>
        </p:blipFill>
        <p:spPr>
          <a:xfrm>
            <a:off x="5072040" y="4432320"/>
            <a:ext cx="1425600" cy="1212840"/>
          </a:xfrm>
          <a:prstGeom prst="rect">
            <a:avLst/>
          </a:prstGeom>
          <a:ln w="0">
            <a:noFill/>
          </a:ln>
        </p:spPr>
      </p:pic>
      <p:pic>
        <p:nvPicPr>
          <p:cNvPr id="447" name="Схема 18" descr=""/>
          <p:cNvPicPr/>
          <p:nvPr/>
        </p:nvPicPr>
        <p:blipFill>
          <a:blip r:embed="rId12"/>
          <a:stretch/>
        </p:blipFill>
        <p:spPr>
          <a:xfrm>
            <a:off x="3425760" y="4784760"/>
            <a:ext cx="1432080" cy="12142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9" descr="j0398129"/>
          <p:cNvPicPr/>
          <p:nvPr/>
        </p:nvPicPr>
        <p:blipFill>
          <a:blip r:embed="rId13"/>
          <a:stretch/>
        </p:blipFill>
        <p:spPr>
          <a:xfrm>
            <a:off x="6643800" y="4156200"/>
            <a:ext cx="2500200" cy="27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Вычисли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+ 0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0 + (-7) =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7 + (-7)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3 +(- 5)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7 + ( - 2)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7 + 5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9 + (-3)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+ (-8) =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072280" y="6000840"/>
            <a:ext cx="357480" cy="28584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7493"/>
                </a:moveTo>
                <a:lnTo>
                  <a:pt x="10005" y="7493"/>
                </a:lnTo>
                <a:lnTo>
                  <a:pt x="10005" y="12828"/>
                </a:lnTo>
                <a:cubicBezTo>
                  <a:pt x="10005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1"/>
          <p:cNvSpPr/>
          <p:nvPr/>
        </p:nvSpPr>
        <p:spPr>
          <a:xfrm>
            <a:off x="3071880" y="5357880"/>
            <a:ext cx="785880" cy="725400"/>
          </a:xfrm>
          <a:custGeom>
            <a:avLst/>
            <a:gdLst>
              <a:gd name="textAreaLeft" fmla="*/ 160200 w 785880"/>
              <a:gd name="textAreaRight" fmla="*/ 625680 w 78588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1"/>
          <p:cNvSpPr/>
          <p:nvPr/>
        </p:nvSpPr>
        <p:spPr>
          <a:xfrm>
            <a:off x="3429000" y="1500120"/>
            <a:ext cx="785880" cy="725400"/>
          </a:xfrm>
          <a:custGeom>
            <a:avLst/>
            <a:gdLst>
              <a:gd name="textAreaLeft" fmla="*/ 160200 w 785880"/>
              <a:gd name="textAreaRight" fmla="*/ 625680 w 78588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714240" y="4000680"/>
            <a:ext cx="785880" cy="725400"/>
          </a:xfrm>
          <a:custGeom>
            <a:avLst/>
            <a:gdLst>
              <a:gd name="textAreaLeft" fmla="*/ 160200 w 785880"/>
              <a:gd name="textAreaRight" fmla="*/ 625680 w 78588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1"/>
          <p:cNvSpPr/>
          <p:nvPr/>
        </p:nvSpPr>
        <p:spPr>
          <a:xfrm>
            <a:off x="6000840" y="1571760"/>
            <a:ext cx="785880" cy="725400"/>
          </a:xfrm>
          <a:custGeom>
            <a:avLst/>
            <a:gdLst>
              <a:gd name="textAreaLeft" fmla="*/ 160200 w 785880"/>
              <a:gd name="textAreaRight" fmla="*/ 625680 w 78588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1"/>
          <p:cNvSpPr/>
          <p:nvPr/>
        </p:nvSpPr>
        <p:spPr>
          <a:xfrm>
            <a:off x="7500960" y="3286080"/>
            <a:ext cx="785880" cy="725400"/>
          </a:xfrm>
          <a:custGeom>
            <a:avLst/>
            <a:gdLst>
              <a:gd name="textAreaLeft" fmla="*/ 160200 w 785880"/>
              <a:gd name="textAreaRight" fmla="*/ 625680 w 78588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1"/>
          <p:cNvSpPr/>
          <p:nvPr/>
        </p:nvSpPr>
        <p:spPr>
          <a:xfrm>
            <a:off x="7286760" y="5072040"/>
            <a:ext cx="785520" cy="725400"/>
          </a:xfrm>
          <a:custGeom>
            <a:avLst/>
            <a:gdLst>
              <a:gd name="textAreaLeft" fmla="*/ 159840 w 785520"/>
              <a:gd name="textAreaRight" fmla="*/ 625680 w 78552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1"/>
          <p:cNvSpPr/>
          <p:nvPr/>
        </p:nvSpPr>
        <p:spPr>
          <a:xfrm>
            <a:off x="5572080" y="3071880"/>
            <a:ext cx="785880" cy="725400"/>
          </a:xfrm>
          <a:custGeom>
            <a:avLst/>
            <a:gdLst>
              <a:gd name="textAreaLeft" fmla="*/ 160200 w 785880"/>
              <a:gd name="textAreaRight" fmla="*/ 625680 w 78588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1"/>
          <p:cNvSpPr/>
          <p:nvPr/>
        </p:nvSpPr>
        <p:spPr>
          <a:xfrm>
            <a:off x="1428840" y="5357880"/>
            <a:ext cx="785880" cy="725400"/>
          </a:xfrm>
          <a:custGeom>
            <a:avLst/>
            <a:gdLst>
              <a:gd name="textAreaLeft" fmla="*/ 160200 w 785880"/>
              <a:gd name="textAreaRight" fmla="*/ 625680 w 78588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1"/>
          <p:cNvSpPr/>
          <p:nvPr/>
        </p:nvSpPr>
        <p:spPr>
          <a:xfrm>
            <a:off x="7000920" y="1928880"/>
            <a:ext cx="857160" cy="796680"/>
          </a:xfrm>
          <a:custGeom>
            <a:avLst/>
            <a:gdLst>
              <a:gd name="textAreaLeft" fmla="*/ 174600 w 857160"/>
              <a:gd name="textAreaRight" fmla="*/ 682560 w 857160"/>
              <a:gd name="textAreaTop" fmla="*/ 162360 h 796680"/>
              <a:gd name="textAreaBottom" fmla="*/ 634320 h 79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1"/>
          <p:cNvSpPr/>
          <p:nvPr/>
        </p:nvSpPr>
        <p:spPr>
          <a:xfrm>
            <a:off x="7215120" y="428760"/>
            <a:ext cx="857160" cy="714240"/>
          </a:xfrm>
          <a:custGeom>
            <a:avLst/>
            <a:gdLst>
              <a:gd name="textAreaLeft" fmla="*/ 174600 w 857160"/>
              <a:gd name="textAreaRight" fmla="*/ 682560 w 857160"/>
              <a:gd name="textAreaTop" fmla="*/ 145440 h 714240"/>
              <a:gd name="textAreaBottom" fmla="*/ 5688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7215120" y="428760"/>
            <a:ext cx="857160" cy="714240"/>
          </a:xfrm>
          <a:custGeom>
            <a:avLst/>
            <a:gdLst>
              <a:gd name="textAreaLeft" fmla="*/ 174600 w 857160"/>
              <a:gd name="textAreaRight" fmla="*/ 682560 w 857160"/>
              <a:gd name="textAreaTop" fmla="*/ 145440 h 714240"/>
              <a:gd name="textAreaBottom" fmla="*/ 5688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857160" y="428760"/>
            <a:ext cx="857520" cy="714240"/>
          </a:xfrm>
          <a:custGeom>
            <a:avLst/>
            <a:gdLst>
              <a:gd name="textAreaLeft" fmla="*/ 174600 w 857520"/>
              <a:gd name="textAreaRight" fmla="*/ 682920 w 857520"/>
              <a:gd name="textAreaTop" fmla="*/ 145440 h 714240"/>
              <a:gd name="textAreaBottom" fmla="*/ 5688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324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4948 1.85185E-006 E">
                                      <p:cBhvr>
                                        <p:cTn id="327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329" nodeType="clickEffect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28 -0.04283 C 0.13021 -0.11273 0.24531 -0.18264 0.23542 -0.25556 C 0.22552 -0.32847 0.00226 -0.44352 -0.04427 -0.48102 E">
                                      <p:cBhvr>
                                        <p:cTn id="332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334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48 -0.00254 L -0.38819 0.1551 E">
                                      <p:cBhvr>
                                        <p:cTn id="337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19 0.03079 L 0.07604 0.17778 E">
                                      <p:cBhvr>
                                        <p:cTn id="342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344" nodeType="clickEffect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6 0.04167 L -0.12691 0.25162 E">
                                      <p:cBhvr>
                                        <p:cTn id="347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89 0.02292 C -0.14479 0.11528 -0.2507 0.20764 -0.29132 0.17222 C -0.33195 0.13681 -0.30747 -0.02662 -0.28299 -0.18981 E">
                                      <p:cBhvr>
                                        <p:cTn id="352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354" nodeType="clickEffect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3 -0.00602 C 0.09236 0.06597 0.13541 0.1382 0.19444 0.14167 C 0.25347 0.14514 0.37031 0.05695 0.40399 0.01458 C 0.43767 -0.02778 0.39878 -0.0912 0.39687 -0.11227 E">
                                      <p:cBhvr>
                                        <p:cTn id="357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359" nodeType="clickEffect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97 0.04676 C 0.18542 0.10625 0.33004 0.16597 0.41354 0.16412 C 0.49705 0.16227 0.52084 0.05694 0.54219 0.03565 E">
                                      <p:cBhvr>
                                        <p:cTn id="362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53684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2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Прямоугольник 3" descr=""/>
          <p:cNvPicPr/>
          <p:nvPr/>
        </p:nvPicPr>
        <p:blipFill>
          <a:blip r:embed="rId2"/>
          <a:stretch/>
        </p:blipFill>
        <p:spPr>
          <a:xfrm>
            <a:off x="1000080" y="1285920"/>
            <a:ext cx="7216920" cy="53028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4"/>
          <p:cNvSpPr/>
          <p:nvPr/>
        </p:nvSpPr>
        <p:spPr>
          <a:xfrm>
            <a:off x="2428920" y="1785960"/>
            <a:ext cx="650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«Имущество и имущество есть имуще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«Сумма двух долгов есть долг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«Сумма имущества и долга равна их раз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«Сумма долга и нуля есть долг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«Сумма имущества и нуля есть имуще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«Сумма двух нулей есть ___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6"/>
          <p:cNvSpPr/>
          <p:nvPr/>
        </p:nvSpPr>
        <p:spPr>
          <a:xfrm>
            <a:off x="210960" y="585792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ок. 598—670 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9" descr="Dufferin-Peel Catholic District School Board - St. Edmund Campion - Grade 9 Locally Developed Math"/>
          <p:cNvPicPr/>
          <p:nvPr/>
        </p:nvPicPr>
        <p:blipFill>
          <a:blip r:embed="rId3"/>
          <a:stretch/>
        </p:blipFill>
        <p:spPr>
          <a:xfrm>
            <a:off x="214200" y="2500200"/>
            <a:ext cx="217188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61"/>
          <p:cNvGrpSpPr/>
          <p:nvPr/>
        </p:nvGrpSpPr>
        <p:grpSpPr>
          <a:xfrm>
            <a:off x="1547640" y="5211720"/>
            <a:ext cx="1511280" cy="738000"/>
            <a:chOff x="1547640" y="5211720"/>
            <a:chExt cx="1511280" cy="738000"/>
          </a:xfrm>
        </p:grpSpPr>
        <p:sp>
          <p:nvSpPr>
            <p:cNvPr id="306" name="AutoShape 62"/>
            <p:cNvSpPr/>
            <p:nvPr/>
          </p:nvSpPr>
          <p:spPr>
            <a:xfrm>
              <a:off x="1547640" y="521172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63"/>
            <p:cNvSpPr/>
            <p:nvPr/>
          </p:nvSpPr>
          <p:spPr>
            <a:xfrm>
              <a:off x="1697040" y="5320080"/>
              <a:ext cx="88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58"/>
          <p:cNvGrpSpPr/>
          <p:nvPr/>
        </p:nvGrpSpPr>
        <p:grpSpPr>
          <a:xfrm>
            <a:off x="2916360" y="5211720"/>
            <a:ext cx="1511280" cy="738000"/>
            <a:chOff x="2916360" y="5211720"/>
            <a:chExt cx="1511280" cy="738000"/>
          </a:xfrm>
        </p:grpSpPr>
        <p:sp>
          <p:nvSpPr>
            <p:cNvPr id="309" name="AutoShape 59"/>
            <p:cNvSpPr/>
            <p:nvPr/>
          </p:nvSpPr>
          <p:spPr>
            <a:xfrm>
              <a:off x="2916360" y="521172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60"/>
            <p:cNvSpPr/>
            <p:nvPr/>
          </p:nvSpPr>
          <p:spPr>
            <a:xfrm>
              <a:off x="3064320" y="532008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64"/>
          <p:cNvGrpSpPr/>
          <p:nvPr/>
        </p:nvGrpSpPr>
        <p:grpSpPr>
          <a:xfrm>
            <a:off x="4284720" y="5211720"/>
            <a:ext cx="1511280" cy="738000"/>
            <a:chOff x="4284720" y="5211720"/>
            <a:chExt cx="1511280" cy="738000"/>
          </a:xfrm>
        </p:grpSpPr>
        <p:sp>
          <p:nvSpPr>
            <p:cNvPr id="312" name="AutoShape 65"/>
            <p:cNvSpPr/>
            <p:nvPr/>
          </p:nvSpPr>
          <p:spPr>
            <a:xfrm>
              <a:off x="4284720" y="521172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66"/>
            <p:cNvSpPr/>
            <p:nvPr/>
          </p:nvSpPr>
          <p:spPr>
            <a:xfrm>
              <a:off x="4433400" y="5320080"/>
              <a:ext cx="76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67"/>
          <p:cNvGrpSpPr/>
          <p:nvPr/>
        </p:nvGrpSpPr>
        <p:grpSpPr>
          <a:xfrm>
            <a:off x="5651640" y="5229360"/>
            <a:ext cx="1511280" cy="737640"/>
            <a:chOff x="5651640" y="5229360"/>
            <a:chExt cx="1511280" cy="737640"/>
          </a:xfrm>
        </p:grpSpPr>
        <p:sp>
          <p:nvSpPr>
            <p:cNvPr id="315" name="AutoShape 68"/>
            <p:cNvSpPr/>
            <p:nvPr/>
          </p:nvSpPr>
          <p:spPr>
            <a:xfrm>
              <a:off x="5651640" y="522936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69"/>
            <p:cNvSpPr/>
            <p:nvPr/>
          </p:nvSpPr>
          <p:spPr>
            <a:xfrm>
              <a:off x="5799600" y="533772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70"/>
          <p:cNvGrpSpPr/>
          <p:nvPr/>
        </p:nvGrpSpPr>
        <p:grpSpPr>
          <a:xfrm>
            <a:off x="1547640" y="4653000"/>
            <a:ext cx="1511280" cy="737640"/>
            <a:chOff x="1547640" y="4653000"/>
            <a:chExt cx="1511280" cy="737640"/>
          </a:xfrm>
        </p:grpSpPr>
        <p:sp>
          <p:nvSpPr>
            <p:cNvPr id="318" name="AutoShape 71"/>
            <p:cNvSpPr/>
            <p:nvPr/>
          </p:nvSpPr>
          <p:spPr>
            <a:xfrm>
              <a:off x="1547640" y="465300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72"/>
            <p:cNvSpPr/>
            <p:nvPr/>
          </p:nvSpPr>
          <p:spPr>
            <a:xfrm>
              <a:off x="2071440" y="4786920"/>
              <a:ext cx="41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73"/>
          <p:cNvGrpSpPr/>
          <p:nvPr/>
        </p:nvGrpSpPr>
        <p:grpSpPr>
          <a:xfrm>
            <a:off x="2916360" y="4653000"/>
            <a:ext cx="1511280" cy="737640"/>
            <a:chOff x="2916360" y="4653000"/>
            <a:chExt cx="1511280" cy="737640"/>
          </a:xfrm>
        </p:grpSpPr>
        <p:sp>
          <p:nvSpPr>
            <p:cNvPr id="321" name="AutoShape 74"/>
            <p:cNvSpPr/>
            <p:nvPr/>
          </p:nvSpPr>
          <p:spPr>
            <a:xfrm>
              <a:off x="2916360" y="465300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75"/>
            <p:cNvSpPr/>
            <p:nvPr/>
          </p:nvSpPr>
          <p:spPr>
            <a:xfrm>
              <a:off x="3064320" y="476136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76"/>
          <p:cNvGrpSpPr/>
          <p:nvPr/>
        </p:nvGrpSpPr>
        <p:grpSpPr>
          <a:xfrm>
            <a:off x="4284720" y="4635360"/>
            <a:ext cx="1511280" cy="738000"/>
            <a:chOff x="4284720" y="4635360"/>
            <a:chExt cx="1511280" cy="738000"/>
          </a:xfrm>
        </p:grpSpPr>
        <p:sp>
          <p:nvSpPr>
            <p:cNvPr id="324" name="AutoShape 77"/>
            <p:cNvSpPr/>
            <p:nvPr/>
          </p:nvSpPr>
          <p:spPr>
            <a:xfrm>
              <a:off x="4284720" y="463536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78"/>
            <p:cNvSpPr/>
            <p:nvPr/>
          </p:nvSpPr>
          <p:spPr>
            <a:xfrm>
              <a:off x="4646520" y="4714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44"/>
          <p:cNvGrpSpPr/>
          <p:nvPr/>
        </p:nvGrpSpPr>
        <p:grpSpPr>
          <a:xfrm>
            <a:off x="1547640" y="4059360"/>
            <a:ext cx="1511280" cy="737640"/>
            <a:chOff x="1547640" y="4059360"/>
            <a:chExt cx="1511280" cy="737640"/>
          </a:xfrm>
        </p:grpSpPr>
        <p:sp>
          <p:nvSpPr>
            <p:cNvPr id="327" name="AutoShape 45"/>
            <p:cNvSpPr/>
            <p:nvPr/>
          </p:nvSpPr>
          <p:spPr>
            <a:xfrm>
              <a:off x="1547640" y="405936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46"/>
            <p:cNvSpPr/>
            <p:nvPr/>
          </p:nvSpPr>
          <p:spPr>
            <a:xfrm>
              <a:off x="1696680" y="416772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47"/>
          <p:cNvGrpSpPr/>
          <p:nvPr/>
        </p:nvGrpSpPr>
        <p:grpSpPr>
          <a:xfrm>
            <a:off x="2916360" y="4076640"/>
            <a:ext cx="1511280" cy="738000"/>
            <a:chOff x="2916360" y="4076640"/>
            <a:chExt cx="1511280" cy="738000"/>
          </a:xfrm>
        </p:grpSpPr>
        <p:sp>
          <p:nvSpPr>
            <p:cNvPr id="330" name="AutoShape 48"/>
            <p:cNvSpPr/>
            <p:nvPr/>
          </p:nvSpPr>
          <p:spPr>
            <a:xfrm>
              <a:off x="2916360" y="407664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49"/>
            <p:cNvSpPr/>
            <p:nvPr/>
          </p:nvSpPr>
          <p:spPr>
            <a:xfrm>
              <a:off x="3064320" y="418500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79"/>
          <p:cNvGrpSpPr/>
          <p:nvPr/>
        </p:nvGrpSpPr>
        <p:grpSpPr>
          <a:xfrm>
            <a:off x="4284720" y="4076640"/>
            <a:ext cx="1511280" cy="738000"/>
            <a:chOff x="4284720" y="4076640"/>
            <a:chExt cx="1511280" cy="738000"/>
          </a:xfrm>
        </p:grpSpPr>
        <p:sp>
          <p:nvSpPr>
            <p:cNvPr id="333" name="AutoShape 80"/>
            <p:cNvSpPr/>
            <p:nvPr/>
          </p:nvSpPr>
          <p:spPr>
            <a:xfrm>
              <a:off x="4284720" y="407664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81"/>
            <p:cNvSpPr/>
            <p:nvPr/>
          </p:nvSpPr>
          <p:spPr>
            <a:xfrm>
              <a:off x="4429080" y="418500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29"/>
          <p:cNvGrpSpPr/>
          <p:nvPr/>
        </p:nvGrpSpPr>
        <p:grpSpPr>
          <a:xfrm>
            <a:off x="5653080" y="4653000"/>
            <a:ext cx="1511280" cy="737640"/>
            <a:chOff x="5653080" y="4653000"/>
            <a:chExt cx="1511280" cy="737640"/>
          </a:xfrm>
        </p:grpSpPr>
        <p:sp>
          <p:nvSpPr>
            <p:cNvPr id="336" name="AutoShape 30"/>
            <p:cNvSpPr/>
            <p:nvPr/>
          </p:nvSpPr>
          <p:spPr>
            <a:xfrm>
              <a:off x="5653080" y="465300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31"/>
            <p:cNvSpPr/>
            <p:nvPr/>
          </p:nvSpPr>
          <p:spPr>
            <a:xfrm>
              <a:off x="5801040" y="476136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85"/>
          <p:cNvGrpSpPr/>
          <p:nvPr/>
        </p:nvGrpSpPr>
        <p:grpSpPr>
          <a:xfrm>
            <a:off x="5653080" y="4076640"/>
            <a:ext cx="1511280" cy="738000"/>
            <a:chOff x="5653080" y="4076640"/>
            <a:chExt cx="1511280" cy="738000"/>
          </a:xfrm>
        </p:grpSpPr>
        <p:sp>
          <p:nvSpPr>
            <p:cNvPr id="339" name="AutoShape 86"/>
            <p:cNvSpPr/>
            <p:nvPr/>
          </p:nvSpPr>
          <p:spPr>
            <a:xfrm>
              <a:off x="5653080" y="407664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87"/>
            <p:cNvSpPr/>
            <p:nvPr/>
          </p:nvSpPr>
          <p:spPr>
            <a:xfrm>
              <a:off x="5801040" y="4185000"/>
              <a:ext cx="63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88"/>
          <p:cNvGrpSpPr/>
          <p:nvPr/>
        </p:nvGrpSpPr>
        <p:grpSpPr>
          <a:xfrm>
            <a:off x="1330200" y="3286080"/>
            <a:ext cx="6121440" cy="934920"/>
            <a:chOff x="1330200" y="3286080"/>
            <a:chExt cx="6121440" cy="934920"/>
          </a:xfrm>
        </p:grpSpPr>
        <p:sp>
          <p:nvSpPr>
            <p:cNvPr id="342" name="Freeform 57"/>
            <p:cNvSpPr/>
            <p:nvPr/>
          </p:nvSpPr>
          <p:spPr>
            <a:xfrm>
              <a:off x="1330200" y="3286080"/>
              <a:ext cx="6121440" cy="934920"/>
            </a:xfrm>
            <a:custGeom>
              <a:avLst/>
              <a:gdLst>
                <a:gd name="textAreaLeft" fmla="*/ 0 w 6121440"/>
                <a:gd name="textAreaRight" fmla="*/ 6121800 w 612144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3947" h="681">
                  <a:moveTo>
                    <a:pt x="91" y="681"/>
                  </a:moveTo>
                  <a:lnTo>
                    <a:pt x="3811" y="681"/>
                  </a:lnTo>
                  <a:lnTo>
                    <a:pt x="3947" y="545"/>
                  </a:lnTo>
                  <a:lnTo>
                    <a:pt x="3357" y="182"/>
                  </a:lnTo>
                  <a:lnTo>
                    <a:pt x="1996" y="0"/>
                  </a:lnTo>
                  <a:lnTo>
                    <a:pt x="499" y="227"/>
                  </a:lnTo>
                  <a:lnTo>
                    <a:pt x="91" y="454"/>
                  </a:lnTo>
                  <a:lnTo>
                    <a:pt x="0" y="681"/>
                  </a:lnTo>
                  <a:lnTo>
                    <a:pt x="227" y="681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9"/>
            <p:cNvSpPr/>
            <p:nvPr/>
          </p:nvSpPr>
          <p:spPr>
            <a:xfrm>
              <a:off x="3501720" y="3429000"/>
              <a:ext cx="2032560" cy="5814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7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&lt; x &lt;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105"/>
          <p:cNvSpPr/>
          <p:nvPr/>
        </p:nvSpPr>
        <p:spPr>
          <a:xfrm>
            <a:off x="500040" y="785880"/>
            <a:ext cx="83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этом доме есть «лишние» кирпич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йди числа, которые не удовлетворяют данн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еравенству и щелкни по ним мыш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е ошибайся! Твои ошибки могут разрушить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08"/>
          <p:cNvSpPr/>
          <p:nvPr/>
        </p:nvSpPr>
        <p:spPr>
          <a:xfrm>
            <a:off x="1787400" y="189000"/>
            <a:ext cx="47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 о с т р о й         Д О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4444E-006 2.96296E-006 L 0.00782 0.525 E">
                                      <p:cBhvr>
                                        <p:cTn id="99" dur="5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5.18519E-006 L 0.0158 0.36735 E">
                                      <p:cBhvr>
                                        <p:cTn id="104" dur="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0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1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1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2" dur="1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" dur="1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4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5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6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7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8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9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" dur="1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1" dur="1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3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4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6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7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L -0.03542 0.49491 E">
                                      <p:cBhvr>
                                        <p:cTn id="217" dur="5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64"/>
          <p:cNvSpPr/>
          <p:nvPr/>
        </p:nvSpPr>
        <p:spPr>
          <a:xfrm>
            <a:off x="1835280" y="148428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еперь в доме не хватает кирпичиков. Подбери недостающие кирпичики и щелкни по ним мышкой. Не ошибайся, твои ошибки увидят вс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68"/>
          <p:cNvGrpSpPr/>
          <p:nvPr/>
        </p:nvGrpSpPr>
        <p:grpSpPr>
          <a:xfrm>
            <a:off x="179280" y="1989000"/>
            <a:ext cx="1511280" cy="724320"/>
            <a:chOff x="179280" y="1989000"/>
            <a:chExt cx="1511280" cy="724320"/>
          </a:xfrm>
        </p:grpSpPr>
        <p:sp>
          <p:nvSpPr>
            <p:cNvPr id="348" name="AutoShape 69"/>
            <p:cNvSpPr/>
            <p:nvPr/>
          </p:nvSpPr>
          <p:spPr>
            <a:xfrm>
              <a:off x="179280" y="1989000"/>
              <a:ext cx="1511280" cy="72108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70"/>
            <p:cNvSpPr/>
            <p:nvPr/>
          </p:nvSpPr>
          <p:spPr>
            <a:xfrm>
              <a:off x="326520" y="2131920"/>
              <a:ext cx="76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2"/>
          <p:cNvGrpSpPr/>
          <p:nvPr/>
        </p:nvGrpSpPr>
        <p:grpSpPr>
          <a:xfrm>
            <a:off x="1547640" y="5211720"/>
            <a:ext cx="1511280" cy="738000"/>
            <a:chOff x="1547640" y="5211720"/>
            <a:chExt cx="1511280" cy="738000"/>
          </a:xfrm>
        </p:grpSpPr>
        <p:sp>
          <p:nvSpPr>
            <p:cNvPr id="351" name="AutoShape 3"/>
            <p:cNvSpPr/>
            <p:nvPr/>
          </p:nvSpPr>
          <p:spPr>
            <a:xfrm>
              <a:off x="1547640" y="521172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4"/>
            <p:cNvSpPr/>
            <p:nvPr/>
          </p:nvSpPr>
          <p:spPr>
            <a:xfrm>
              <a:off x="1697040" y="5320080"/>
              <a:ext cx="88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5"/>
          <p:cNvGrpSpPr/>
          <p:nvPr/>
        </p:nvGrpSpPr>
        <p:grpSpPr>
          <a:xfrm>
            <a:off x="2916360" y="5211720"/>
            <a:ext cx="1511280" cy="738000"/>
            <a:chOff x="2916360" y="5211720"/>
            <a:chExt cx="1511280" cy="738000"/>
          </a:xfrm>
        </p:grpSpPr>
        <p:sp>
          <p:nvSpPr>
            <p:cNvPr id="354" name="AutoShape 6"/>
            <p:cNvSpPr/>
            <p:nvPr/>
          </p:nvSpPr>
          <p:spPr>
            <a:xfrm>
              <a:off x="2916360" y="521172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7"/>
            <p:cNvSpPr/>
            <p:nvPr/>
          </p:nvSpPr>
          <p:spPr>
            <a:xfrm>
              <a:off x="3065760" y="5320080"/>
              <a:ext cx="88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8"/>
          <p:cNvGrpSpPr/>
          <p:nvPr/>
        </p:nvGrpSpPr>
        <p:grpSpPr>
          <a:xfrm>
            <a:off x="4284720" y="5211720"/>
            <a:ext cx="1511280" cy="738000"/>
            <a:chOff x="4284720" y="5211720"/>
            <a:chExt cx="1511280" cy="738000"/>
          </a:xfrm>
        </p:grpSpPr>
        <p:sp>
          <p:nvSpPr>
            <p:cNvPr id="357" name="AutoShape 9"/>
            <p:cNvSpPr/>
            <p:nvPr/>
          </p:nvSpPr>
          <p:spPr>
            <a:xfrm>
              <a:off x="4284720" y="521172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10"/>
            <p:cNvSpPr/>
            <p:nvPr/>
          </p:nvSpPr>
          <p:spPr>
            <a:xfrm>
              <a:off x="4434120" y="532008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1"/>
          <p:cNvGrpSpPr/>
          <p:nvPr/>
        </p:nvGrpSpPr>
        <p:grpSpPr>
          <a:xfrm>
            <a:off x="5651640" y="5229360"/>
            <a:ext cx="1511280" cy="737640"/>
            <a:chOff x="5651640" y="5229360"/>
            <a:chExt cx="1511280" cy="737640"/>
          </a:xfrm>
        </p:grpSpPr>
        <p:sp>
          <p:nvSpPr>
            <p:cNvPr id="360" name="AutoShape 12"/>
            <p:cNvSpPr/>
            <p:nvPr/>
          </p:nvSpPr>
          <p:spPr>
            <a:xfrm>
              <a:off x="5651640" y="522936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3"/>
            <p:cNvSpPr/>
            <p:nvPr/>
          </p:nvSpPr>
          <p:spPr>
            <a:xfrm>
              <a:off x="5800320" y="5337720"/>
              <a:ext cx="76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4"/>
          <p:cNvGrpSpPr/>
          <p:nvPr/>
        </p:nvGrpSpPr>
        <p:grpSpPr>
          <a:xfrm>
            <a:off x="1547640" y="4653000"/>
            <a:ext cx="1511280" cy="737640"/>
            <a:chOff x="1547640" y="4653000"/>
            <a:chExt cx="1511280" cy="737640"/>
          </a:xfrm>
        </p:grpSpPr>
        <p:sp>
          <p:nvSpPr>
            <p:cNvPr id="363" name="AutoShape 15"/>
            <p:cNvSpPr/>
            <p:nvPr/>
          </p:nvSpPr>
          <p:spPr>
            <a:xfrm>
              <a:off x="1547640" y="465300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1696680" y="476136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7"/>
          <p:cNvGrpSpPr/>
          <p:nvPr/>
        </p:nvGrpSpPr>
        <p:grpSpPr>
          <a:xfrm>
            <a:off x="2916360" y="4653000"/>
            <a:ext cx="1511280" cy="737640"/>
            <a:chOff x="2916360" y="4653000"/>
            <a:chExt cx="1511280" cy="737640"/>
          </a:xfrm>
        </p:grpSpPr>
        <p:sp>
          <p:nvSpPr>
            <p:cNvPr id="366" name="AutoShape 18"/>
            <p:cNvSpPr/>
            <p:nvPr/>
          </p:nvSpPr>
          <p:spPr>
            <a:xfrm>
              <a:off x="2916360" y="465300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19"/>
            <p:cNvSpPr/>
            <p:nvPr/>
          </p:nvSpPr>
          <p:spPr>
            <a:xfrm>
              <a:off x="3065760" y="4761360"/>
              <a:ext cx="88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20"/>
          <p:cNvGrpSpPr/>
          <p:nvPr/>
        </p:nvGrpSpPr>
        <p:grpSpPr>
          <a:xfrm>
            <a:off x="4284720" y="4635360"/>
            <a:ext cx="1511280" cy="738000"/>
            <a:chOff x="4284720" y="4635360"/>
            <a:chExt cx="1511280" cy="738000"/>
          </a:xfrm>
        </p:grpSpPr>
        <p:sp>
          <p:nvSpPr>
            <p:cNvPr id="369" name="AutoShape 21"/>
            <p:cNvSpPr/>
            <p:nvPr/>
          </p:nvSpPr>
          <p:spPr>
            <a:xfrm>
              <a:off x="4284720" y="463536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22"/>
            <p:cNvSpPr/>
            <p:nvPr/>
          </p:nvSpPr>
          <p:spPr>
            <a:xfrm>
              <a:off x="4433760" y="474372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23"/>
          <p:cNvGrpSpPr/>
          <p:nvPr/>
        </p:nvGrpSpPr>
        <p:grpSpPr>
          <a:xfrm>
            <a:off x="1547640" y="4059360"/>
            <a:ext cx="1511280" cy="737640"/>
            <a:chOff x="1547640" y="4059360"/>
            <a:chExt cx="1511280" cy="737640"/>
          </a:xfrm>
        </p:grpSpPr>
        <p:sp>
          <p:nvSpPr>
            <p:cNvPr id="372" name="AutoShape 24"/>
            <p:cNvSpPr/>
            <p:nvPr/>
          </p:nvSpPr>
          <p:spPr>
            <a:xfrm>
              <a:off x="1547640" y="405936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25"/>
            <p:cNvSpPr/>
            <p:nvPr/>
          </p:nvSpPr>
          <p:spPr>
            <a:xfrm>
              <a:off x="1696680" y="416772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30"/>
          <p:cNvGrpSpPr/>
          <p:nvPr/>
        </p:nvGrpSpPr>
        <p:grpSpPr>
          <a:xfrm>
            <a:off x="1981080" y="404640"/>
            <a:ext cx="1511280" cy="725760"/>
            <a:chOff x="1981080" y="404640"/>
            <a:chExt cx="1511280" cy="725760"/>
          </a:xfrm>
        </p:grpSpPr>
        <p:sp>
          <p:nvSpPr>
            <p:cNvPr id="375" name="AutoShape 31"/>
            <p:cNvSpPr/>
            <p:nvPr/>
          </p:nvSpPr>
          <p:spPr>
            <a:xfrm>
              <a:off x="1981080" y="404640"/>
              <a:ext cx="1511280" cy="720720"/>
            </a:xfrm>
            <a:prstGeom prst="cube">
              <a:avLst>
                <a:gd name="adj" fmla="val 250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32"/>
            <p:cNvSpPr/>
            <p:nvPr/>
          </p:nvSpPr>
          <p:spPr>
            <a:xfrm>
              <a:off x="1986120" y="549000"/>
              <a:ext cx="99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33"/>
          <p:cNvGrpSpPr/>
          <p:nvPr/>
        </p:nvGrpSpPr>
        <p:grpSpPr>
          <a:xfrm>
            <a:off x="4284720" y="4076640"/>
            <a:ext cx="1511280" cy="738000"/>
            <a:chOff x="4284720" y="4076640"/>
            <a:chExt cx="1511280" cy="738000"/>
          </a:xfrm>
        </p:grpSpPr>
        <p:sp>
          <p:nvSpPr>
            <p:cNvPr id="378" name="AutoShape 34"/>
            <p:cNvSpPr/>
            <p:nvPr/>
          </p:nvSpPr>
          <p:spPr>
            <a:xfrm>
              <a:off x="4284720" y="407664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35"/>
            <p:cNvSpPr/>
            <p:nvPr/>
          </p:nvSpPr>
          <p:spPr>
            <a:xfrm>
              <a:off x="4433760" y="418500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37"/>
          <p:cNvGrpSpPr/>
          <p:nvPr/>
        </p:nvGrpSpPr>
        <p:grpSpPr>
          <a:xfrm>
            <a:off x="3708360" y="404640"/>
            <a:ext cx="1511280" cy="725760"/>
            <a:chOff x="3708360" y="404640"/>
            <a:chExt cx="1511280" cy="725760"/>
          </a:xfrm>
        </p:grpSpPr>
        <p:sp>
          <p:nvSpPr>
            <p:cNvPr id="381" name="AutoShape 38"/>
            <p:cNvSpPr/>
            <p:nvPr/>
          </p:nvSpPr>
          <p:spPr>
            <a:xfrm>
              <a:off x="3708360" y="404640"/>
              <a:ext cx="1511280" cy="720720"/>
            </a:xfrm>
            <a:prstGeom prst="cube">
              <a:avLst>
                <a:gd name="adj" fmla="val 2500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39"/>
            <p:cNvSpPr/>
            <p:nvPr/>
          </p:nvSpPr>
          <p:spPr>
            <a:xfrm>
              <a:off x="3785760" y="54900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40"/>
          <p:cNvGrpSpPr/>
          <p:nvPr/>
        </p:nvGrpSpPr>
        <p:grpSpPr>
          <a:xfrm>
            <a:off x="7308720" y="907920"/>
            <a:ext cx="1511280" cy="725760"/>
            <a:chOff x="7308720" y="907920"/>
            <a:chExt cx="1511280" cy="725760"/>
          </a:xfrm>
        </p:grpSpPr>
        <p:sp>
          <p:nvSpPr>
            <p:cNvPr id="384" name="AutoShape 41"/>
            <p:cNvSpPr/>
            <p:nvPr/>
          </p:nvSpPr>
          <p:spPr>
            <a:xfrm>
              <a:off x="7308720" y="907920"/>
              <a:ext cx="1511280" cy="720720"/>
            </a:xfrm>
            <a:prstGeom prst="cube">
              <a:avLst>
                <a:gd name="adj" fmla="val 2500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42"/>
            <p:cNvSpPr/>
            <p:nvPr/>
          </p:nvSpPr>
          <p:spPr>
            <a:xfrm>
              <a:off x="7386120" y="105228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49"/>
          <p:cNvGrpSpPr/>
          <p:nvPr/>
        </p:nvGrpSpPr>
        <p:grpSpPr>
          <a:xfrm>
            <a:off x="1330200" y="3286080"/>
            <a:ext cx="6121440" cy="934920"/>
            <a:chOff x="1330200" y="3286080"/>
            <a:chExt cx="6121440" cy="934920"/>
          </a:xfrm>
        </p:grpSpPr>
        <p:sp>
          <p:nvSpPr>
            <p:cNvPr id="387" name="Freeform 50"/>
            <p:cNvSpPr/>
            <p:nvPr/>
          </p:nvSpPr>
          <p:spPr>
            <a:xfrm>
              <a:off x="1330200" y="3286080"/>
              <a:ext cx="6121440" cy="934920"/>
            </a:xfrm>
            <a:custGeom>
              <a:avLst/>
              <a:gdLst>
                <a:gd name="textAreaLeft" fmla="*/ 0 w 6121440"/>
                <a:gd name="textAreaRight" fmla="*/ 6121800 w 612144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3947" h="681">
                  <a:moveTo>
                    <a:pt x="91" y="681"/>
                  </a:moveTo>
                  <a:lnTo>
                    <a:pt x="3811" y="681"/>
                  </a:lnTo>
                  <a:lnTo>
                    <a:pt x="3947" y="545"/>
                  </a:lnTo>
                  <a:lnTo>
                    <a:pt x="3357" y="182"/>
                  </a:lnTo>
                  <a:lnTo>
                    <a:pt x="1996" y="0"/>
                  </a:lnTo>
                  <a:lnTo>
                    <a:pt x="499" y="227"/>
                  </a:lnTo>
                  <a:lnTo>
                    <a:pt x="91" y="454"/>
                  </a:lnTo>
                  <a:lnTo>
                    <a:pt x="0" y="681"/>
                  </a:lnTo>
                  <a:lnTo>
                    <a:pt x="227" y="681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51"/>
            <p:cNvSpPr/>
            <p:nvPr/>
          </p:nvSpPr>
          <p:spPr>
            <a:xfrm>
              <a:off x="3501000" y="3429000"/>
              <a:ext cx="1919520" cy="5814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&lt; x &lt;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57"/>
          <p:cNvGrpSpPr/>
          <p:nvPr/>
        </p:nvGrpSpPr>
        <p:grpSpPr>
          <a:xfrm>
            <a:off x="5580000" y="260280"/>
            <a:ext cx="1511280" cy="724320"/>
            <a:chOff x="5580000" y="260280"/>
            <a:chExt cx="1511280" cy="724320"/>
          </a:xfrm>
        </p:grpSpPr>
        <p:sp>
          <p:nvSpPr>
            <p:cNvPr id="390" name="AutoShape 36"/>
            <p:cNvSpPr/>
            <p:nvPr/>
          </p:nvSpPr>
          <p:spPr>
            <a:xfrm>
              <a:off x="5580000" y="260280"/>
              <a:ext cx="1511280" cy="721080"/>
            </a:xfrm>
            <a:prstGeom prst="cube">
              <a:avLst>
                <a:gd name="adj" fmla="val 2500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56"/>
            <p:cNvSpPr/>
            <p:nvPr/>
          </p:nvSpPr>
          <p:spPr>
            <a:xfrm>
              <a:off x="5727600" y="403200"/>
              <a:ext cx="88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58"/>
          <p:cNvGrpSpPr/>
          <p:nvPr/>
        </p:nvGrpSpPr>
        <p:grpSpPr>
          <a:xfrm>
            <a:off x="179280" y="1413000"/>
            <a:ext cx="1511280" cy="723960"/>
            <a:chOff x="179280" y="1413000"/>
            <a:chExt cx="1511280" cy="723960"/>
          </a:xfrm>
        </p:grpSpPr>
        <p:sp>
          <p:nvSpPr>
            <p:cNvPr id="393" name="AutoShape 59"/>
            <p:cNvSpPr/>
            <p:nvPr/>
          </p:nvSpPr>
          <p:spPr>
            <a:xfrm>
              <a:off x="179280" y="1413000"/>
              <a:ext cx="1511280" cy="720720"/>
            </a:xfrm>
            <a:prstGeom prst="cube">
              <a:avLst>
                <a:gd name="adj" fmla="val 2500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60"/>
            <p:cNvSpPr/>
            <p:nvPr/>
          </p:nvSpPr>
          <p:spPr>
            <a:xfrm>
              <a:off x="325800" y="1555560"/>
              <a:ext cx="63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61"/>
          <p:cNvGrpSpPr/>
          <p:nvPr/>
        </p:nvGrpSpPr>
        <p:grpSpPr>
          <a:xfrm>
            <a:off x="250920" y="476280"/>
            <a:ext cx="1511280" cy="724320"/>
            <a:chOff x="250920" y="476280"/>
            <a:chExt cx="1511280" cy="724320"/>
          </a:xfrm>
        </p:grpSpPr>
        <p:sp>
          <p:nvSpPr>
            <p:cNvPr id="396" name="AutoShape 62"/>
            <p:cNvSpPr/>
            <p:nvPr/>
          </p:nvSpPr>
          <p:spPr>
            <a:xfrm>
              <a:off x="250920" y="476280"/>
              <a:ext cx="1511280" cy="721080"/>
            </a:xfrm>
            <a:prstGeom prst="cube">
              <a:avLst>
                <a:gd name="adj" fmla="val 25000"/>
              </a:avLst>
            </a:prstGeom>
            <a:blipFill rotWithShape="0">
              <a:blip r:embed="rId18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63"/>
            <p:cNvSpPr/>
            <p:nvPr/>
          </p:nvSpPr>
          <p:spPr>
            <a:xfrm>
              <a:off x="398160" y="619200"/>
              <a:ext cx="76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5"/>
          <p:cNvGrpSpPr/>
          <p:nvPr/>
        </p:nvGrpSpPr>
        <p:grpSpPr>
          <a:xfrm>
            <a:off x="7308720" y="333360"/>
            <a:ext cx="1511280" cy="724320"/>
            <a:chOff x="7308720" y="333360"/>
            <a:chExt cx="1511280" cy="724320"/>
          </a:xfrm>
        </p:grpSpPr>
        <p:sp>
          <p:nvSpPr>
            <p:cNvPr id="399" name="AutoShape 66"/>
            <p:cNvSpPr/>
            <p:nvPr/>
          </p:nvSpPr>
          <p:spPr>
            <a:xfrm>
              <a:off x="7308720" y="333360"/>
              <a:ext cx="1511280" cy="721080"/>
            </a:xfrm>
            <a:prstGeom prst="cube">
              <a:avLst>
                <a:gd name="adj" fmla="val 25000"/>
              </a:avLst>
            </a:prstGeom>
            <a:blipFill rotWithShape="0">
              <a:blip r:embed="rId19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67"/>
            <p:cNvSpPr/>
            <p:nvPr/>
          </p:nvSpPr>
          <p:spPr>
            <a:xfrm>
              <a:off x="7455960" y="47628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20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5.18519E-006 L 0.10226 0.53542 E">
                                      <p:cBhvr>
                                        <p:cTn id="223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18108 0.46204 E">
                                      <p:cBhvr>
                                        <p:cTn id="228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230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0.21267 0.61944 E">
                                      <p:cBhvr>
                                        <p:cTn id="233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0" dur="1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1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2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1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3" dur="1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4" dur="1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5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6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1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7" dur="1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8" dur="1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Выберите числа, противоположные данным"/>
          <p:cNvPicPr/>
          <p:nvPr/>
        </p:nvPicPr>
        <p:blipFill>
          <a:blip r:embed="rId1"/>
          <a:srcRect l="5469" t="8331" r="50004" b="35417"/>
          <a:stretch/>
        </p:blipFill>
        <p:spPr>
          <a:xfrm>
            <a:off x="785880" y="1071720"/>
            <a:ext cx="3857400" cy="216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2" name=""/>
          <p:cNvGraphicFramePr/>
          <p:nvPr/>
        </p:nvGraphicFramePr>
        <p:xfrm>
          <a:off x="1357200" y="357120"/>
          <a:ext cx="6929640" cy="579600"/>
        </p:xfrm>
        <a:graphic>
          <a:graphicData uri="http://schemas.openxmlformats.org/drawingml/2006/table">
            <a:tbl>
              <a:tblPr/>
              <a:tblGrid>
                <a:gridCol w="1155960"/>
                <a:gridCol w="1153800"/>
                <a:gridCol w="1154160"/>
                <a:gridCol w="1155960"/>
                <a:gridCol w="1153800"/>
                <a:gridCol w="115596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4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403" name="Схема 13" descr=""/>
          <p:cNvPicPr/>
          <p:nvPr/>
        </p:nvPicPr>
        <p:blipFill>
          <a:blip r:embed="rId2"/>
          <a:stretch/>
        </p:blipFill>
        <p:spPr>
          <a:xfrm>
            <a:off x="4711680" y="1073160"/>
            <a:ext cx="1433520" cy="1212840"/>
          </a:xfrm>
          <a:prstGeom prst="rect">
            <a:avLst/>
          </a:prstGeom>
          <a:ln w="0">
            <a:noFill/>
          </a:ln>
        </p:spPr>
      </p:pic>
      <p:pic>
        <p:nvPicPr>
          <p:cNvPr id="404" name="Схема 14" descr=""/>
          <p:cNvPicPr/>
          <p:nvPr/>
        </p:nvPicPr>
        <p:blipFill>
          <a:blip r:embed="rId3"/>
          <a:stretch/>
        </p:blipFill>
        <p:spPr>
          <a:xfrm>
            <a:off x="7143840" y="1139760"/>
            <a:ext cx="1427040" cy="1219320"/>
          </a:xfrm>
          <a:prstGeom prst="rect">
            <a:avLst/>
          </a:prstGeom>
          <a:ln w="0">
            <a:noFill/>
          </a:ln>
        </p:spPr>
      </p:pic>
      <p:pic>
        <p:nvPicPr>
          <p:cNvPr id="405" name="Схема 15" descr=""/>
          <p:cNvPicPr/>
          <p:nvPr/>
        </p:nvPicPr>
        <p:blipFill>
          <a:blip r:embed="rId4"/>
          <a:stretch/>
        </p:blipFill>
        <p:spPr>
          <a:xfrm>
            <a:off x="4645080" y="2425680"/>
            <a:ext cx="1427040" cy="1219320"/>
          </a:xfrm>
          <a:prstGeom prst="rect">
            <a:avLst/>
          </a:prstGeom>
          <a:ln w="0">
            <a:noFill/>
          </a:ln>
        </p:spPr>
      </p:pic>
      <p:pic>
        <p:nvPicPr>
          <p:cNvPr id="406" name="Схема 16" descr=""/>
          <p:cNvPicPr/>
          <p:nvPr/>
        </p:nvPicPr>
        <p:blipFill>
          <a:blip r:embed="rId5"/>
          <a:stretch/>
        </p:blipFill>
        <p:spPr>
          <a:xfrm>
            <a:off x="7358040" y="2859120"/>
            <a:ext cx="1425600" cy="1212840"/>
          </a:xfrm>
          <a:prstGeom prst="rect">
            <a:avLst/>
          </a:prstGeom>
          <a:ln w="0">
            <a:noFill/>
          </a:ln>
        </p:spPr>
      </p:pic>
      <p:pic>
        <p:nvPicPr>
          <p:cNvPr id="407" name="Схема 17" descr=""/>
          <p:cNvPicPr/>
          <p:nvPr/>
        </p:nvPicPr>
        <p:blipFill>
          <a:blip r:embed="rId6"/>
          <a:stretch/>
        </p:blipFill>
        <p:spPr>
          <a:xfrm>
            <a:off x="4857840" y="4071960"/>
            <a:ext cx="1427040" cy="1212840"/>
          </a:xfrm>
          <a:prstGeom prst="rect">
            <a:avLst/>
          </a:prstGeom>
          <a:ln w="0">
            <a:noFill/>
          </a:ln>
        </p:spPr>
      </p:pic>
      <p:pic>
        <p:nvPicPr>
          <p:cNvPr id="408" name="Схема 18" descr=""/>
          <p:cNvPicPr/>
          <p:nvPr/>
        </p:nvPicPr>
        <p:blipFill>
          <a:blip r:embed="rId7"/>
          <a:stretch/>
        </p:blipFill>
        <p:spPr>
          <a:xfrm>
            <a:off x="7284960" y="4359240"/>
            <a:ext cx="1432080" cy="12128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19"/>
          <p:cNvSpPr/>
          <p:nvPr/>
        </p:nvSpPr>
        <p:spPr>
          <a:xfrm>
            <a:off x="2428920" y="3357720"/>
            <a:ext cx="25002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Ян Видма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его книга «Быстрый и счастливый счет для всего купечества» вышла в 1489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Схема 10" descr=""/>
          <p:cNvPicPr/>
          <p:nvPr/>
        </p:nvPicPr>
        <p:blipFill>
          <a:blip r:embed="rId8"/>
          <a:stretch/>
        </p:blipFill>
        <p:spPr>
          <a:xfrm>
            <a:off x="5999040" y="2073240"/>
            <a:ext cx="1432080" cy="1212840"/>
          </a:xfrm>
          <a:prstGeom prst="rect">
            <a:avLst/>
          </a:prstGeom>
          <a:ln w="0">
            <a:noFill/>
          </a:ln>
        </p:spPr>
      </p:pic>
      <p:pic>
        <p:nvPicPr>
          <p:cNvPr id="411" name="Схема 11" descr=""/>
          <p:cNvPicPr/>
          <p:nvPr/>
        </p:nvPicPr>
        <p:blipFill>
          <a:blip r:embed="rId9"/>
          <a:stretch/>
        </p:blipFill>
        <p:spPr>
          <a:xfrm>
            <a:off x="5999040" y="5284800"/>
            <a:ext cx="1432080" cy="1212840"/>
          </a:xfrm>
          <a:prstGeom prst="rect">
            <a:avLst/>
          </a:prstGeom>
          <a:ln w="0">
            <a:noFill/>
          </a:ln>
        </p:spPr>
      </p:pic>
      <p:pic>
        <p:nvPicPr>
          <p:cNvPr id="412" name="Схема 12" descr=""/>
          <p:cNvPicPr/>
          <p:nvPr/>
        </p:nvPicPr>
        <p:blipFill>
          <a:blip r:embed="rId10"/>
          <a:stretch/>
        </p:blipFill>
        <p:spPr>
          <a:xfrm>
            <a:off x="6145200" y="3571920"/>
            <a:ext cx="1425600" cy="1212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0" descr="Презентация на тему: &quot;Работу выполнили: Плеханова Полина, Уткина Екатерина 9 &quot;А&quot; ГОУ лицей 144.&quot;. . Скачать бесплатно и без реги"/>
          <p:cNvPicPr/>
          <p:nvPr/>
        </p:nvPicPr>
        <p:blipFill>
          <a:blip r:embed="rId11"/>
          <a:srcRect l="6396" t="4252" r="61487" b="19318"/>
          <a:stretch/>
        </p:blipFill>
        <p:spPr>
          <a:xfrm>
            <a:off x="214200" y="3313080"/>
            <a:ext cx="1785960" cy="318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Найди результаты следующих опер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28760" y="1285560"/>
            <a:ext cx="8300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 – 25  рублей, доход – 18 руб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 – 30  рублей и долг – 40  руб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грыш  – 5 очков, проигрыш – 7 оч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игрыш – 7  очков, выигрыш – 2 оч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температуры на 3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 уменьшение температуры на 9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23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Georgia"/>
              </a:rPr>
              <a:t>«Сложение целых чисел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Сложение целых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Наши 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ткрыть алгоритм сложения цел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формулировать правила сложения чисел одного знака и чисел разных зна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читься складывать целые числа с использованием открытого алгоритма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Управляющая кнопка: возврат 4">
            <a:hlinkClick r:id="rId1" action="ppaction://hlinksldjump"/>
          </p:cNvPr>
          <p:cNvSpPr/>
          <p:nvPr/>
        </p:nvSpPr>
        <p:spPr>
          <a:xfrm>
            <a:off x="8072280" y="6072120"/>
            <a:ext cx="357480" cy="28584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7493"/>
                </a:moveTo>
                <a:lnTo>
                  <a:pt x="10005" y="7493"/>
                </a:lnTo>
                <a:lnTo>
                  <a:pt x="10005" y="12828"/>
                </a:lnTo>
                <a:cubicBezTo>
                  <a:pt x="10005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Рисунок 4" descr="writingonbook.gif"/>
          <p:cNvPicPr/>
          <p:nvPr/>
        </p:nvPicPr>
        <p:blipFill>
          <a:blip r:embed="rId2"/>
          <a:stretch/>
        </p:blipFill>
        <p:spPr>
          <a:xfrm>
            <a:off x="6715080" y="285840"/>
            <a:ext cx="2000160" cy="18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Бросают два игральных кубика. Белый кубик показывает число выигранных мячей, черный – число проигранных. Занесите в таблицу результаты каждого бро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rcRect l="0" t="0" r="916" b="1398"/>
          <a:stretch/>
        </p:blipFill>
        <p:spPr>
          <a:xfrm>
            <a:off x="857160" y="1450800"/>
            <a:ext cx="7715520" cy="44784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"/>
          <p:cNvPicPr/>
          <p:nvPr/>
        </p:nvPicPr>
        <p:blipFill>
          <a:blip r:embed="rId2"/>
          <a:stretch/>
        </p:blipFill>
        <p:spPr>
          <a:xfrm>
            <a:off x="4429080" y="6072120"/>
            <a:ext cx="4162320" cy="4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Заполните таблицу, используя положительные и отрицательные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rcRect l="0" t="0" r="1614" b="0"/>
          <a:stretch/>
        </p:blipFill>
        <p:spPr>
          <a:xfrm>
            <a:off x="290520" y="1428840"/>
            <a:ext cx="8551800" cy="4929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9:47:58Z</dcterms:created>
  <dc:creator>Савченко</dc:creator>
  <dc:description/>
  <dc:language>en-US</dc:language>
  <cp:lastModifiedBy>User</cp:lastModifiedBy>
  <dcterms:modified xsi:type="dcterms:W3CDTF">2020-10-29T16:52:21Z</dcterms:modified>
  <cp:revision>131</cp:revision>
  <dc:subject/>
  <dc:title>Слайд 1</dc:title>
</cp:coreProperties>
</file>